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0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2B27-3141-4715-9EC1-9956388FB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BF93-5E01-4DBC-AC21-835B4D208E8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E48E-2CBA-4F93-86D0-BEE316BA7D0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DAF7-EABF-4D97-8B10-6AC9BF30BC5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laces where light come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photosynthesis is endergonic -- the electron transport chain is driven by 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look at that in more detail on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6617-1D61-46B1-8E6D-488BD65C810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hotosystem is not enoug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o lift electron in 2 stages to a higher energy level. Does work as it f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produce ATP -- but producing ATP is not enoug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need to produce organic molecules for other uses &amp; also need to produce a stable storage molecule for a rainy day (sugars). This is done in Calvin Cyc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6D02-F983-4221-9209-515F7251403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8FB1-004F-4837-96DB-608D8E4CDF1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EFB3-4C72-4074-9B8C-7695682D6AD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0A13-67FE-4322-B71C-85A6A3AFBA3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P = ribulose bis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isco = ribulose bisphosphate carbox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A = phosphoglyc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AL = phosphoglyceraldehy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C26D-F574-4AE0-9BAB-9023474E8E2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9369-8F7D-4BFA-AEC9-80150C19D44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F481-9760-45E5-A5DD-ECCE8C3DCD0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n effect, photosynthesis is respiration run backwards powered by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ze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 produce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 of electrons downhill to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g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 produc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 electrons uphill by splitting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rg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52A2-B3D6-4011-8F3E-6555FA2C7F1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81FD-0CF8-441E-8F16-C78DC5CC833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FC2A-F9F4-4F04-856D-F2BDC8BAC8D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E52A-DA79-40AB-863C-AC0A986CB46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EECF-F10E-4C5A-A553-FD780AD4170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 mesophyll cell has 30-40 chloroplasts, each about 2-4 microns by 4-7 micron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hloroplast has two membranes around a central aqueous space, the stro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roma are membranous sacs,  the thylak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ve an internal aqueous space, the thylakoid lumen or thylakoid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ylakoids may be stacked into columns called gr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0DE5-78BC-4CDA-B9D8-1AC310D3E82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entation of chlorophyll molecule is due to polarity of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5F79-B8D2-4FD5-82B9-10A6A66CFAA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7A52-1B03-40CC-AF55-BEDD94748B2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B348-0B6E-49B6-AD30-F3FA3362EEA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ccidental that these 2 systems are similar, because both derived from the same primitive ances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FC35-6CE8-4EB2-9363-10124D7CD50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s are absorbed by clusters of pigment molecules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enna molecule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ylakoid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y antenna molecule absorbs a photon, it is transmitted from molecule to molecule until it reaches a particular chlorophyll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lecule =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ction c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reaction center is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 electron accep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ich removes an excited electron from the reaction center chlorophyll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starts the light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compete with each other, work synergistically using different wavelengths.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08__x0008__x0008__x0008__x0008__x0008__x0008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219C5-4484-4B44-9D49-090E45511C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5BB8-4F41-4483-A87F-DC2BF846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11C124-44DD-4018-AC70-93F23BB7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2E84D5-55DE-41A7-AF96-93FDC9E7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67C887-B8B1-4B75-ADEA-36932EB7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E779CB-7457-4C71-81B1-6BB276E1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E46BBB-97C9-4621-9AFD-6181034A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66912-284E-4B73-9191-2D62D95F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392FF0-E1BC-4FE8-AC9D-233C9DF3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A4F53F-89C8-4BDE-9229-CE63DCAB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559B6A-A993-45F9-8734-64033D3476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014402-8024-470C-A1E3-D9D0EE823A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304E-9545-424D-A263-40B050EC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C59FCC-7ACD-42A9-AE5A-BA291692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56CC1D-6A3D-418F-8031-448C990C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23AA4F-88B5-4D7B-8B89-180F27FA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D6D81E-67F1-47FB-AFBB-F84B8788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C74F3D-C386-4891-BD2C-C90AFBA4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58E8A2-0F83-4B65-B66E-3646EF2C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1B79DA-987C-442D-9713-64409F75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6AB09F-4C32-4E2E-91CF-86DFB1EF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FFE427-15AA-4CD5-A84C-EDFB7078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43A2B5-80C1-4AAC-95D7-B829891B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D327-FC69-4CBC-B6BA-2460DBF6B8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94C7BE-5958-4A6B-BE06-C305214914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FF294-9679-4362-99E1-C8E3DC24E4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ACC00-A4CD-4BBF-AA3D-0CA96CBE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A1C9F-7001-4888-8908-B4A78AF0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62CA7-4B31-4A45-A954-EEC93A1A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DD4DF-1F2C-4002-B7DE-CDC162E0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28068-9D23-40E3-9EBD-BB8E21AF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9BAFA-4DD7-46BB-954E-9089F964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8BC7B-064A-4B0B-87A5-0B77A412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9FBDB-84C5-4A78-B6EA-4AEADD6C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38B56-5A24-4977-8779-D26361E4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33C6B-FF53-4AEA-A295-1D1CD92F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7A2E4-EAF8-42B1-A9A3-6D45C82D47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22A362-97DB-4193-9A17-28EDE34173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5BAFA4-0521-4862-AE47-F76117FD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3E0271-1770-4AFB-9CB9-5D8ECE43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1F7A15-6B00-465C-A70E-D36FC4B6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46FDC6-5D74-4C1F-91CD-D3EBF443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3F9A56-8549-4AFB-AAD7-7E170F50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3E96CD-588D-410E-8B0B-08F2F919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B5C040-0317-473C-8489-C2AA75EF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6D11DA-44DC-455E-8B84-F6DE7EB7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F846E7-D0D5-45CE-9A3C-CE6C7D72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86F272-CD6F-4364-8EC1-1B92082C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588C4B-595C-46A9-9E84-3D53A14605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4109-5974-47B0-A685-8E784287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292C9-0665-4E7B-984F-3A6AD40603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E8B3D-6ABA-4627-876E-9B29B033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477ED-EC1E-47E9-AD73-AB5326E2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32D08-9820-4D73-B07E-43DC9831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1B707-FD02-4870-82FA-33FC842A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EC4D-0B6F-40AD-991F-7EEA4DA4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2A7DD-6137-4C95-BFD0-EE4EA5D7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EBC65-2AE8-49E9-80EF-E50DBF90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17C77-ADD9-4917-B5DD-53D65535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561C0-3F19-48BD-BCE0-83B48A0D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51749-9DF1-4106-91A4-B2D0DB5E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D47BF-D830-496A-9A94-D87F6C0A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C38E3-3741-4D93-8530-8C87257A30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095E57-A9B1-4994-BF9F-5415F9D2FF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A9AE70-8B1E-4C26-B108-23FAF7BD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2EFCFE-F378-43C9-B74A-00103A5B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5C8A-3EC2-4A44-8BEF-0EA227AE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AFC0B6-589B-4C3B-988D-B367E8A9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4F8384-9ABC-4FF3-9DF5-A21C3FF9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316043-8659-4F3A-A750-5FECA9E3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B7B39F-1827-42A5-8D50-F9FBC40A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454D04-E5ED-4C42-9AB6-9DB1F2E3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5CF706-0F91-4664-9034-FFD4582C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15B4F7-A187-42AE-9687-05CF7465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7734D7-0D96-45C0-8174-7873370E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09C11A-7E80-45C9-8D58-A32069AE03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BFFDA-C71D-491C-BED9-634CF763DC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E357-6E05-4802-9388-8DE155E4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6A3A0-33A4-4CDD-9EC0-FF2B8415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598D8-037B-42BA-AC76-64C809CC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4B3AF-02A7-424D-A45A-38EF1140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BF028-4075-4921-9CC8-E89EC2AD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A1CB1-3865-4650-954D-630634EF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68D02-3B5D-4E64-A4B3-AA01AD5B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EC299-AE4B-451A-9B21-D84972A3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93B3D-4D56-4E74-86BF-A6AAD191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42045-AED5-4A4A-8D1D-316CBBEE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E0117-D484-4D17-8BD2-C56547C2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2213-CC0C-43EB-AF36-F08FAA35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ACF59-A940-4DA8-92D3-DE9CD63EF5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A85647-9867-4A3F-96FC-A345D91E30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92FCDA-298F-46F9-9E63-42D35CC9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B59DEA-D8C3-47BB-B2A0-16DEAAE8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7834E3-7411-49DA-BF21-876B32FA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A75F72-23B5-42D1-8E8A-4C58B9CF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9B7057-5EDD-4305-8C78-ABF0222D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7EC4D1-173F-453A-A1AF-36A7FFD4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56EDD5-336C-4C54-9EB4-210DBC53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98F3FC-F3F9-4D60-9900-C21958A2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D8F8-3E0C-4DA1-BD84-430FDC9F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88B1B5-34A7-408A-B216-DBAA671E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9A0CA1-1099-4713-BEB4-3A42E1A3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F52BF9-DFD4-4F22-9BAF-D694D2E789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DAAE7D-A443-4DC9-A72B-1B85E3B7F9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DF37C7-0651-4793-9F95-DB381016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ADEC27-FFBD-4333-983A-08DE861F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917ECF-4AB2-43C1-A1F1-1B36A95F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A76DC2-6715-4166-9862-92FE7FC4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5FE16D-91EF-4F7F-8270-35CAEE65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657D69-2844-478C-8846-1430110E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F761-E7A4-4320-B5CB-A10E8CC6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D814BE-CF1B-4A89-BF37-20DEE397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3349D4-CE70-49AA-9723-2A217824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93B65D-4E98-4036-8A1D-7EC9CFEA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3948B3-F09B-4580-A042-331A06C1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90AAF2-7226-40D2-945D-069BDC7DDC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60AC5-D402-4DBC-907B-33CA8C6222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EC403-7425-451C-BE48-847EA52E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74C5E-95ED-4DF5-A837-0EAB8F92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D5FC4-D6C5-4628-8772-94BDF02B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3B083-EFFF-499D-AC8B-C8569A06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8C3F3-0FF7-449A-9FF5-8A40C340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F83EE-F9F3-48C5-9E90-BE4AE0A2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FFE25-98B5-4FDD-92F2-CE7CC2E5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66C06-0311-4E3D-9C78-5BF1B435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BFFBB-6AC1-4FC7-A8A0-46922AC4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0C63E-5AF9-42E4-8321-18558BA7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78F33-FD9A-48A5-81CA-2B7EAA88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C6AC2-20DF-4698-AAC2-A0ECC65603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91B807-13EB-497E-A709-109569D39D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74CBFC-82FE-4728-9570-B98E1164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C0428D-5DC9-4AB9-A025-8D6175A6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14C6-AE55-48D2-AC5C-49F43A1B631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0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1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2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3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4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9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E3FF-66C7-4237-ACF6-FF6E4961085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dt" idx="20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BA37-9083-4458-B1B1-0086D532AB9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dt" idx="2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2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3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4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5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6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23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50DA-2788-4A8D-BCEB-C699D14A1C90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dt" idx="24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8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9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2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3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Line 81"/>
            <p:cNvSpPr/>
            <p:nvPr/>
          </p:nvSpPr>
          <p:spPr>
            <a:xfrm flipV="1">
              <a:off x="838368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5" name="Oval 82"/>
            <p:cNvSpPr/>
            <p:nvPr/>
          </p:nvSpPr>
          <p:spPr>
            <a:xfrm rot="10800000">
              <a:off x="8307360" y="5029560"/>
              <a:ext cx="15228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6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Num" idx="5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F51C-86F1-476A-B724-332C635A28D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dt" idx="6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7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6E6F-0AC7-4301-A6F7-4598C9C1A1E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dt" idx="8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0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1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2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4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9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96E1-E559-40DE-BA7A-A6EA6ECDD29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dt" idx="10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CEC1-47A1-474F-B43B-6C64FD1E0FF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dt" idx="1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2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3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4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5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6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3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7932-D250-42A0-AF5A-91797EC99A1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dt" idx="14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8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9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0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1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2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15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47A7-39C8-4F8D-ADB2-446BFA34469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dt" idx="16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7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44E7-53C1-4104-8000-E0E31C1A4B1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dt" idx="18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2"/>
          <p:cNvSpPr/>
          <p:nvPr/>
        </p:nvSpPr>
        <p:spPr>
          <a:xfrm>
            <a:off x="4495680" y="3276720"/>
            <a:ext cx="1828800" cy="127944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91960 h 1279440"/>
              <a:gd name="textAreaBottom" fmla="*/ 98748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90720" y="19807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Life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from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igh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66" name="Picture 4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8194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TC of Photo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TC produces from </a:t>
            </a:r>
            <a:r>
              <a:rPr b="1" lang="en-US" sz="2600" spc="-1" strike="noStrike">
                <a:solidFill>
                  <a:srgbClr val="0c8f0f"/>
                </a:solidFill>
                <a:latin typeface="Arial"/>
              </a:rPr>
              <a:t>light energy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NADP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ADPH (stored energy)</a:t>
            </a:r>
            <a:r>
              <a:rPr b="1" lang="en-US" sz="2000" spc="-1" strike="noStrike">
                <a:solidFill>
                  <a:srgbClr val="3d1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oes to Calvin cycl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S II absorbs </a:t>
            </a:r>
            <a:r>
              <a:rPr b="1" lang="en-US" sz="2600" spc="-1" strike="noStrike">
                <a:solidFill>
                  <a:srgbClr val="0c8f0f"/>
                </a:solidFill>
                <a:latin typeface="Arial"/>
              </a:rPr>
              <a:t>ligh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xcited electron passes from chlorophyll to “</a:t>
            </a:r>
            <a:r>
              <a:rPr b="1" lang="en-US" sz="2400" spc="-1" strike="noStrike">
                <a:solidFill>
                  <a:srgbClr val="660000"/>
                </a:solidFill>
                <a:latin typeface="Arial"/>
              </a:rPr>
              <a:t>primary electron acceptor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” at the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REACTION CENTER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plits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04a402"/>
                </a:solidFill>
                <a:latin typeface="Arial"/>
              </a:rPr>
              <a:t>(Photolysis!!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leased to atmospher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TP is produced for later us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2" descr=""/>
          <p:cNvPicPr/>
          <p:nvPr/>
        </p:nvPicPr>
        <p:blipFill>
          <a:blip r:embed="rId1"/>
          <a:srcRect l="0" t="0" r="0" b="3310"/>
          <a:stretch/>
        </p:blipFill>
        <p:spPr>
          <a:xfrm>
            <a:off x="1440" y="568440"/>
            <a:ext cx="9002880" cy="621324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3"/>
          <p:cNvSpPr/>
          <p:nvPr/>
        </p:nvSpPr>
        <p:spPr>
          <a:xfrm>
            <a:off x="4919040" y="424800"/>
            <a:ext cx="406836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Photosynthesi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67" name="Group 14"/>
          <p:cNvGrpSpPr/>
          <p:nvPr/>
        </p:nvGrpSpPr>
        <p:grpSpPr>
          <a:xfrm>
            <a:off x="2647800" y="998640"/>
            <a:ext cx="2349360" cy="1755720"/>
            <a:chOff x="2647800" y="998640"/>
            <a:chExt cx="2349360" cy="1755720"/>
          </a:xfrm>
        </p:grpSpPr>
        <p:sp>
          <p:nvSpPr>
            <p:cNvPr id="668" name="Rectangle 9"/>
            <p:cNvSpPr/>
            <p:nvPr/>
          </p:nvSpPr>
          <p:spPr>
            <a:xfrm>
              <a:off x="2647800" y="998640"/>
              <a:ext cx="2349360" cy="459720"/>
            </a:xfrm>
            <a:prstGeom prst="rect">
              <a:avLst/>
            </a:prstGeom>
            <a:noFill/>
            <a:ln w="28440">
              <a:solidFill>
                <a:srgbClr val="8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800"/>
                  </a:solidFill>
                  <a:uFillTx/>
                  <a:latin typeface="Arial"/>
                </a:rPr>
                <a:t>Photosystem II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69" name="Line 12"/>
            <p:cNvSpPr/>
            <p:nvPr/>
          </p:nvSpPr>
          <p:spPr>
            <a:xfrm flipH="1">
              <a:off x="3166920" y="1380960"/>
              <a:ext cx="412560" cy="1373400"/>
            </a:xfrm>
            <a:prstGeom prst="line">
              <a:avLst/>
            </a:prstGeom>
            <a:ln w="38160">
              <a:solidFill>
                <a:srgbClr val="04a4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70" name="Group 16"/>
          <p:cNvGrpSpPr/>
          <p:nvPr/>
        </p:nvGrpSpPr>
        <p:grpSpPr>
          <a:xfrm>
            <a:off x="4330440" y="1609560"/>
            <a:ext cx="2264040" cy="1073160"/>
            <a:chOff x="4330440" y="1609560"/>
            <a:chExt cx="2264040" cy="1073160"/>
          </a:xfrm>
        </p:grpSpPr>
        <p:sp>
          <p:nvSpPr>
            <p:cNvPr id="671" name="Rectangle 11"/>
            <p:cNvSpPr/>
            <p:nvPr/>
          </p:nvSpPr>
          <p:spPr>
            <a:xfrm>
              <a:off x="4330440" y="1609560"/>
              <a:ext cx="2264040" cy="459720"/>
            </a:xfrm>
            <a:prstGeom prst="rect">
              <a:avLst/>
            </a:prstGeom>
            <a:noFill/>
            <a:ln w="28440">
              <a:solidFill>
                <a:srgbClr val="8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800"/>
                  </a:solidFill>
                  <a:uFillTx/>
                  <a:latin typeface="Arial"/>
                </a:rPr>
                <a:t>Photosystem I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72" name="Line 13"/>
            <p:cNvSpPr/>
            <p:nvPr/>
          </p:nvSpPr>
          <p:spPr>
            <a:xfrm flipH="1">
              <a:off x="5651280" y="2008080"/>
              <a:ext cx="198360" cy="674640"/>
            </a:xfrm>
            <a:prstGeom prst="line">
              <a:avLst/>
            </a:prstGeom>
            <a:ln w="38160">
              <a:solidFill>
                <a:srgbClr val="04a4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oncyclic Photophosphoryl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75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7240" y="1600200"/>
            <a:ext cx="4718160" cy="518148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ght reactions elevate electrons i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steps (PS II &amp; PS I)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PS II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enerate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ergy as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PS I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enerate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educing power as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NADP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yclic photophosphoryl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7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7240" y="1600200"/>
            <a:ext cx="4718160" cy="518148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f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Arial"/>
              </a:rPr>
              <a:t>PS I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n’t pass electron to NADP, it cycles back to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Arial"/>
              </a:rPr>
              <a:t>PS II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&amp; makes more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, but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no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NADP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oordinates light reactions to Calvin cycl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lvin cycle uses more ATP than NADP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81" name="AutoShape 5"/>
          <p:cNvSpPr/>
          <p:nvPr/>
        </p:nvSpPr>
        <p:spPr>
          <a:xfrm flipH="1" rot="19997400">
            <a:off x="5790960" y="1523520"/>
            <a:ext cx="1981080" cy="610200"/>
          </a:xfrm>
          <a:custGeom>
            <a:avLst/>
            <a:gdLst>
              <a:gd name="textAreaLeft" fmla="*/ 365760 w 1981080"/>
              <a:gd name="textAreaRight" fmla="*/ 1338480 w 1981080"/>
              <a:gd name="textAreaTop" fmla="*/ 81720 h 610200"/>
              <a:gd name="textAreaBottom" fmla="*/ 528480 h 61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86" hR="21600" stAng="10800000" swAng="5400000"/>
                <a:lnTo>
                  <a:pt x="10602" y="0"/>
                </a:lnTo>
                <a:arcTo wR="7986" hR="21600" stAng="-5400000" swAng="2776838"/>
                <a:lnTo>
                  <a:pt x="21143" y="14400"/>
                </a:lnTo>
                <a:lnTo>
                  <a:pt x="17280" y="21600"/>
                </a:lnTo>
                <a:lnTo>
                  <a:pt x="12503" y="14400"/>
                </a:lnTo>
                <a:lnTo>
                  <a:pt x="15515" y="14400"/>
                </a:lnTo>
                <a:arcTo wR="7986" hR="21600" stAng="-2623162" swAng="-2566078"/>
                <a:lnTo>
                  <a:pt x="9294" y="292"/>
                </a:lnTo>
                <a:arcTo wR="7986" hR="21600" stAng="-5610760" swAng="-5189240"/>
                <a:close/>
              </a:path>
              <a:path fill="darkenLess" w="21600" h="21600">
                <a:moveTo>
                  <a:pt x="0" y="21600"/>
                </a:moveTo>
                <a:arcTo wR="7986" hR="21600" stAng="10800000" swAng="5400000"/>
                <a:lnTo>
                  <a:pt x="7986" y="0"/>
                </a:lnTo>
                <a:arcTo wR="7986" hR="21600" stAng="-5400000" swAng="210760"/>
                <a:lnTo>
                  <a:pt x="9294" y="292"/>
                </a:lnTo>
                <a:arcTo wR="7986" hR="21600" stAng="-5610760" swAng="-5189240"/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82" name="Rectangle 8"/>
          <p:cNvSpPr/>
          <p:nvPr/>
        </p:nvSpPr>
        <p:spPr>
          <a:xfrm>
            <a:off x="7999200" y="2785320"/>
            <a:ext cx="7066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6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rom Light reactions to Calvin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lvin cycl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hloroplast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strom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ed products of light reactions to drive synthesis rea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What is there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left to do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Make sugar!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686" name="Picture 4" descr=""/>
          <p:cNvPicPr/>
          <p:nvPr/>
        </p:nvPicPr>
        <p:blipFill>
          <a:blip r:embed="rId1"/>
          <a:srcRect l="0" t="0" r="0" b="3446"/>
          <a:stretch/>
        </p:blipFill>
        <p:spPr>
          <a:xfrm>
            <a:off x="3809880" y="3355920"/>
            <a:ext cx="533412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rom CO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C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6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has very little chemical energ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ully oxidiz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ntains a lot of chemical energ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duc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dergoni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duction of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ceeds in many small uphill step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ch catalyzed by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pecific enzy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sing energy stored in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&amp;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"/>
          <p:cNvGrpSpPr/>
          <p:nvPr/>
        </p:nvGrpSpPr>
        <p:grpSpPr>
          <a:xfrm>
            <a:off x="54000" y="2853360"/>
            <a:ext cx="2765520" cy="1989360"/>
            <a:chOff x="54000" y="2853360"/>
            <a:chExt cx="2765520" cy="1989360"/>
          </a:xfrm>
        </p:grpSpPr>
        <p:sp>
          <p:nvSpPr>
            <p:cNvPr id="690" name="Oval 3"/>
            <p:cNvSpPr/>
            <p:nvPr/>
          </p:nvSpPr>
          <p:spPr>
            <a:xfrm>
              <a:off x="1828800" y="3962520"/>
              <a:ext cx="990720" cy="53316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91" name="Rectangle 4"/>
            <p:cNvSpPr/>
            <p:nvPr/>
          </p:nvSpPr>
          <p:spPr>
            <a:xfrm>
              <a:off x="54000" y="3047760"/>
              <a:ext cx="1314720" cy="89748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PGAL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to make 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glucose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92" name="AutoShape 5"/>
            <p:cNvSpPr/>
            <p:nvPr/>
          </p:nvSpPr>
          <p:spPr>
            <a:xfrm flipH="1" flipV="1" rot="19608600">
              <a:off x="1294920" y="2933640"/>
              <a:ext cx="838440" cy="1828800"/>
            </a:xfrm>
            <a:custGeom>
              <a:avLst/>
              <a:gdLst>
                <a:gd name="textAreaLeft" fmla="*/ 122040 w 838440"/>
                <a:gd name="textAreaRight" fmla="*/ 716400 w 838440"/>
                <a:gd name="textAreaTop" fmla="*/ 268200 h 1828800"/>
                <a:gd name="textAreaBottom" fmla="*/ 156060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939" y="10435"/>
                  </a:moveTo>
                  <a:cubicBezTo>
                    <a:pt x="18744" y="6081"/>
                    <a:pt x="15158" y="2652"/>
                    <a:pt x="10800" y="2652"/>
                  </a:cubicBezTo>
                  <a:cubicBezTo>
                    <a:pt x="10052" y="2651"/>
                    <a:pt x="9308" y="2754"/>
                    <a:pt x="8588" y="2957"/>
                  </a:cubicBezTo>
                  <a:lnTo>
                    <a:pt x="7868" y="405"/>
                  </a:lnTo>
                  <a:cubicBezTo>
                    <a:pt x="8822" y="136"/>
                    <a:pt x="9808" y="-1"/>
                    <a:pt x="10800" y="0"/>
                  </a:cubicBezTo>
                  <a:cubicBezTo>
                    <a:pt x="16576" y="0"/>
                    <a:pt x="21330" y="4545"/>
                    <a:pt x="21589" y="10316"/>
                  </a:cubicBezTo>
                  <a:lnTo>
                    <a:pt x="24286" y="10195"/>
                  </a:lnTo>
                  <a:lnTo>
                    <a:pt x="20444" y="14397"/>
                  </a:lnTo>
                  <a:lnTo>
                    <a:pt x="16242" y="10555"/>
                  </a:lnTo>
                  <a:lnTo>
                    <a:pt x="18939" y="10435"/>
                  </a:ln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93" name="Group 6"/>
          <p:cNvGrpSpPr/>
          <p:nvPr/>
        </p:nvGrpSpPr>
        <p:grpSpPr>
          <a:xfrm>
            <a:off x="3024360" y="1752480"/>
            <a:ext cx="4190760" cy="4648320"/>
            <a:chOff x="3024360" y="1752480"/>
            <a:chExt cx="4190760" cy="4648320"/>
          </a:xfrm>
        </p:grpSpPr>
        <p:sp>
          <p:nvSpPr>
            <p:cNvPr id="694" name="AutoShape 7"/>
            <p:cNvSpPr/>
            <p:nvPr/>
          </p:nvSpPr>
          <p:spPr>
            <a:xfrm>
              <a:off x="4959360" y="1752480"/>
              <a:ext cx="304920" cy="381240"/>
            </a:xfrm>
            <a:prstGeom prst="downArrow">
              <a:avLst>
                <a:gd name="adj1" fmla="val 50000"/>
                <a:gd name="adj2" fmla="val 3125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95" name="Oval 8"/>
            <p:cNvSpPr/>
            <p:nvPr/>
          </p:nvSpPr>
          <p:spPr>
            <a:xfrm>
              <a:off x="3024360" y="2209680"/>
              <a:ext cx="4190760" cy="4191120"/>
            </a:xfrm>
            <a:prstGeom prst="ellipse">
              <a:avLst/>
            </a:prstGeom>
            <a:noFill/>
            <a:ln w="12708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96" name="Group 10"/>
          <p:cNvGrpSpPr/>
          <p:nvPr/>
        </p:nvGrpSpPr>
        <p:grpSpPr>
          <a:xfrm>
            <a:off x="6192720" y="2513880"/>
            <a:ext cx="668520" cy="610200"/>
            <a:chOff x="6192720" y="2513880"/>
            <a:chExt cx="668520" cy="610200"/>
          </a:xfrm>
        </p:grpSpPr>
        <p:sp>
          <p:nvSpPr>
            <p:cNvPr id="697" name="Oval 11"/>
            <p:cNvSpPr/>
            <p:nvPr/>
          </p:nvSpPr>
          <p:spPr>
            <a:xfrm>
              <a:off x="6197400" y="2514600"/>
              <a:ext cx="60912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98" name="Rectangle 12"/>
            <p:cNvSpPr/>
            <p:nvPr/>
          </p:nvSpPr>
          <p:spPr>
            <a:xfrm>
              <a:off x="6192720" y="25138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99" name="Group 14"/>
          <p:cNvGrpSpPr/>
          <p:nvPr/>
        </p:nvGrpSpPr>
        <p:grpSpPr>
          <a:xfrm>
            <a:off x="4778280" y="1219320"/>
            <a:ext cx="1330560" cy="609480"/>
            <a:chOff x="4778280" y="1219320"/>
            <a:chExt cx="1330560" cy="609480"/>
          </a:xfrm>
        </p:grpSpPr>
        <p:grpSp>
          <p:nvGrpSpPr>
            <p:cNvPr id="700" name="Group 15"/>
            <p:cNvGrpSpPr/>
            <p:nvPr/>
          </p:nvGrpSpPr>
          <p:grpSpPr>
            <a:xfrm>
              <a:off x="4778280" y="1219320"/>
              <a:ext cx="668520" cy="609480"/>
              <a:chOff x="4778280" y="1219320"/>
              <a:chExt cx="668520" cy="609480"/>
            </a:xfrm>
          </p:grpSpPr>
          <p:sp>
            <p:nvSpPr>
              <p:cNvPr id="701" name="Oval 16"/>
              <p:cNvSpPr/>
              <p:nvPr/>
            </p:nvSpPr>
            <p:spPr>
              <a:xfrm>
                <a:off x="4807080" y="1219320"/>
                <a:ext cx="609480" cy="60948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02" name="Rectangle 17"/>
              <p:cNvSpPr/>
              <p:nvPr/>
            </p:nvSpPr>
            <p:spPr>
              <a:xfrm>
                <a:off x="4778280" y="123300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Arial"/>
                  </a:rPr>
                  <a:t>1C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703" name="Rectangle 18"/>
            <p:cNvSpPr/>
            <p:nvPr/>
          </p:nvSpPr>
          <p:spPr>
            <a:xfrm>
              <a:off x="5420520" y="122544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04" name="Rectangle 19"/>
          <p:cNvSpPr/>
          <p:nvPr/>
        </p:nvSpPr>
        <p:spPr>
          <a:xfrm>
            <a:off x="702000" y="684720"/>
            <a:ext cx="2672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alvin cycle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05" name="AutoShape 20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06" name="AutoShape 21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07" name="Group 22"/>
          <p:cNvGrpSpPr/>
          <p:nvPr/>
        </p:nvGrpSpPr>
        <p:grpSpPr>
          <a:xfrm>
            <a:off x="2988720" y="1904040"/>
            <a:ext cx="1612080" cy="762840"/>
            <a:chOff x="2988720" y="1904040"/>
            <a:chExt cx="1612080" cy="762840"/>
          </a:xfrm>
        </p:grpSpPr>
        <p:sp>
          <p:nvSpPr>
            <p:cNvPr id="708" name="Oval 23"/>
            <p:cNvSpPr/>
            <p:nvPr/>
          </p:nvSpPr>
          <p:spPr>
            <a:xfrm>
              <a:off x="3960720" y="2057400"/>
              <a:ext cx="60984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09" name="Group 24"/>
            <p:cNvGrpSpPr/>
            <p:nvPr/>
          </p:nvGrpSpPr>
          <p:grpSpPr>
            <a:xfrm>
              <a:off x="2988720" y="1904040"/>
              <a:ext cx="1612080" cy="703440"/>
              <a:chOff x="2988720" y="1904040"/>
              <a:chExt cx="1612080" cy="703440"/>
            </a:xfrm>
          </p:grpSpPr>
          <p:sp>
            <p:nvSpPr>
              <p:cNvPr id="710" name="Rectangle 25"/>
              <p:cNvSpPr/>
              <p:nvPr/>
            </p:nvSpPr>
            <p:spPr>
              <a:xfrm>
                <a:off x="3932280" y="205668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Arial"/>
                  </a:rPr>
                  <a:t>5C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11" name="Rectangle 26"/>
              <p:cNvSpPr/>
              <p:nvPr/>
            </p:nvSpPr>
            <p:spPr>
              <a:xfrm>
                <a:off x="2988720" y="1904040"/>
                <a:ext cx="9396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RuBP</a:t>
                </a:r>
                <a:endParaRPr b="0" lang="en-US" sz="2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712" name="Group 27"/>
          <p:cNvGrpSpPr/>
          <p:nvPr/>
        </p:nvGrpSpPr>
        <p:grpSpPr>
          <a:xfrm>
            <a:off x="6325200" y="3961440"/>
            <a:ext cx="1928880" cy="762840"/>
            <a:chOff x="6325200" y="3961440"/>
            <a:chExt cx="1928880" cy="762840"/>
          </a:xfrm>
        </p:grpSpPr>
        <p:grpSp>
          <p:nvGrpSpPr>
            <p:cNvPr id="713" name="Group 28"/>
            <p:cNvGrpSpPr/>
            <p:nvPr/>
          </p:nvGrpSpPr>
          <p:grpSpPr>
            <a:xfrm>
              <a:off x="6859440" y="4114080"/>
              <a:ext cx="668520" cy="610200"/>
              <a:chOff x="6859440" y="4114080"/>
              <a:chExt cx="668520" cy="610200"/>
            </a:xfrm>
          </p:grpSpPr>
          <p:sp>
            <p:nvSpPr>
              <p:cNvPr id="714" name="Oval 29"/>
              <p:cNvSpPr/>
              <p:nvPr/>
            </p:nvSpPr>
            <p:spPr>
              <a:xfrm>
                <a:off x="6864120" y="4114800"/>
                <a:ext cx="609840" cy="60948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15" name="Rectangle 30"/>
              <p:cNvSpPr/>
              <p:nvPr/>
            </p:nvSpPr>
            <p:spPr>
              <a:xfrm>
                <a:off x="6859440" y="411408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Arial"/>
                  </a:rPr>
                  <a:t>3C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716" name="Rectangle 31"/>
            <p:cNvSpPr/>
            <p:nvPr/>
          </p:nvSpPr>
          <p:spPr>
            <a:xfrm>
              <a:off x="6325200" y="4190760"/>
              <a:ext cx="54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7" name="Rectangle 32"/>
            <p:cNvSpPr/>
            <p:nvPr/>
          </p:nvSpPr>
          <p:spPr>
            <a:xfrm>
              <a:off x="7470000" y="3961440"/>
              <a:ext cx="784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GA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18" name="Group 33"/>
          <p:cNvGrpSpPr/>
          <p:nvPr/>
        </p:nvGrpSpPr>
        <p:grpSpPr>
          <a:xfrm>
            <a:off x="6629400" y="5485320"/>
            <a:ext cx="1826640" cy="886320"/>
            <a:chOff x="6629400" y="5485320"/>
            <a:chExt cx="1826640" cy="886320"/>
          </a:xfrm>
        </p:grpSpPr>
        <p:sp>
          <p:nvSpPr>
            <p:cNvPr id="719" name="AutoShape 34"/>
            <p:cNvSpPr/>
            <p:nvPr/>
          </p:nvSpPr>
          <p:spPr>
            <a:xfrm>
              <a:off x="6629400" y="5715000"/>
              <a:ext cx="838080" cy="53352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20" name="Rectangle 35"/>
            <p:cNvSpPr/>
            <p:nvPr/>
          </p:nvSpPr>
          <p:spPr>
            <a:xfrm>
              <a:off x="7453800" y="5942520"/>
              <a:ext cx="1002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6 ADP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21" name="Rectangle 36"/>
            <p:cNvSpPr/>
            <p:nvPr/>
          </p:nvSpPr>
          <p:spPr>
            <a:xfrm>
              <a:off x="7453800" y="5485320"/>
              <a:ext cx="97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6 ATP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22" name="Group 37"/>
          <p:cNvGrpSpPr/>
          <p:nvPr/>
        </p:nvGrpSpPr>
        <p:grpSpPr>
          <a:xfrm>
            <a:off x="4420440" y="5790960"/>
            <a:ext cx="1126440" cy="914760"/>
            <a:chOff x="4420440" y="5790960"/>
            <a:chExt cx="1126440" cy="914760"/>
          </a:xfrm>
        </p:grpSpPr>
        <p:grpSp>
          <p:nvGrpSpPr>
            <p:cNvPr id="723" name="Group 38"/>
            <p:cNvGrpSpPr/>
            <p:nvPr/>
          </p:nvGrpSpPr>
          <p:grpSpPr>
            <a:xfrm>
              <a:off x="4878360" y="6095160"/>
              <a:ext cx="668520" cy="610560"/>
              <a:chOff x="4878360" y="6095160"/>
              <a:chExt cx="668520" cy="610560"/>
            </a:xfrm>
          </p:grpSpPr>
          <p:sp>
            <p:nvSpPr>
              <p:cNvPr id="724" name="Oval 39"/>
              <p:cNvSpPr/>
              <p:nvPr/>
            </p:nvSpPr>
            <p:spPr>
              <a:xfrm>
                <a:off x="4883040" y="6095880"/>
                <a:ext cx="609120" cy="609840"/>
              </a:xfrm>
              <a:prstGeom prst="ellipse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25" name="Rectangle 40"/>
              <p:cNvSpPr/>
              <p:nvPr/>
            </p:nvSpPr>
            <p:spPr>
              <a:xfrm>
                <a:off x="4878360" y="609516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3C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726" name="Rectangle 41"/>
            <p:cNvSpPr/>
            <p:nvPr/>
          </p:nvSpPr>
          <p:spPr>
            <a:xfrm>
              <a:off x="4420440" y="5790960"/>
              <a:ext cx="54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27" name="Group 42"/>
          <p:cNvGrpSpPr/>
          <p:nvPr/>
        </p:nvGrpSpPr>
        <p:grpSpPr>
          <a:xfrm>
            <a:off x="1831320" y="4037760"/>
            <a:ext cx="1976400" cy="838800"/>
            <a:chOff x="1831320" y="4037760"/>
            <a:chExt cx="1976400" cy="838800"/>
          </a:xfrm>
        </p:grpSpPr>
        <p:grpSp>
          <p:nvGrpSpPr>
            <p:cNvPr id="728" name="Group 43"/>
            <p:cNvGrpSpPr/>
            <p:nvPr/>
          </p:nvGrpSpPr>
          <p:grpSpPr>
            <a:xfrm>
              <a:off x="2668320" y="4267080"/>
              <a:ext cx="668520" cy="609480"/>
              <a:chOff x="2668320" y="4267080"/>
              <a:chExt cx="668520" cy="609480"/>
            </a:xfrm>
          </p:grpSpPr>
          <p:sp>
            <p:nvSpPr>
              <p:cNvPr id="729" name="Oval 44"/>
              <p:cNvSpPr/>
              <p:nvPr/>
            </p:nvSpPr>
            <p:spPr>
              <a:xfrm>
                <a:off x="2697120" y="4267080"/>
                <a:ext cx="609480" cy="60948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30" name="Rectangle 45"/>
              <p:cNvSpPr/>
              <p:nvPr/>
            </p:nvSpPr>
            <p:spPr>
              <a:xfrm>
                <a:off x="2668320" y="428076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Arial"/>
                  </a:rPr>
                  <a:t>3C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731" name="Rectangle 46"/>
            <p:cNvSpPr/>
            <p:nvPr/>
          </p:nvSpPr>
          <p:spPr>
            <a:xfrm>
              <a:off x="3258360" y="4311360"/>
              <a:ext cx="54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2" name="Rectangle 47"/>
            <p:cNvSpPr/>
            <p:nvPr/>
          </p:nvSpPr>
          <p:spPr>
            <a:xfrm>
              <a:off x="1831320" y="4037760"/>
              <a:ext cx="95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GAL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33" name="Group 48"/>
          <p:cNvGrpSpPr/>
          <p:nvPr/>
        </p:nvGrpSpPr>
        <p:grpSpPr>
          <a:xfrm>
            <a:off x="1298880" y="5515560"/>
            <a:ext cx="2206080" cy="856080"/>
            <a:chOff x="1298880" y="5515560"/>
            <a:chExt cx="2206080" cy="856080"/>
          </a:xfrm>
        </p:grpSpPr>
        <p:sp>
          <p:nvSpPr>
            <p:cNvPr id="734" name="AutoShape 49"/>
            <p:cNvSpPr/>
            <p:nvPr/>
          </p:nvSpPr>
          <p:spPr>
            <a:xfrm flipH="1">
              <a:off x="2666160" y="5715000"/>
              <a:ext cx="838440" cy="533520"/>
            </a:xfrm>
            <a:custGeom>
              <a:avLst/>
              <a:gdLst>
                <a:gd name="textAreaLeft" fmla="*/ 112320 w 838440"/>
                <a:gd name="textAreaRight" fmla="*/ 726120 w 83844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5" name="Rectangle 50"/>
            <p:cNvSpPr/>
            <p:nvPr/>
          </p:nvSpPr>
          <p:spPr>
            <a:xfrm>
              <a:off x="1499040" y="5942520"/>
              <a:ext cx="1203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6 NADP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6" name="Rectangle 51"/>
            <p:cNvSpPr/>
            <p:nvPr/>
          </p:nvSpPr>
          <p:spPr>
            <a:xfrm>
              <a:off x="1298880" y="5515560"/>
              <a:ext cx="1404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6 NADPH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37" name="Group 52"/>
          <p:cNvGrpSpPr/>
          <p:nvPr/>
        </p:nvGrpSpPr>
        <p:grpSpPr>
          <a:xfrm>
            <a:off x="1433880" y="2589840"/>
            <a:ext cx="1766520" cy="886320"/>
            <a:chOff x="1433880" y="2589840"/>
            <a:chExt cx="1766520" cy="886320"/>
          </a:xfrm>
        </p:grpSpPr>
        <p:sp>
          <p:nvSpPr>
            <p:cNvPr id="738" name="AutoShape 53"/>
            <p:cNvSpPr/>
            <p:nvPr/>
          </p:nvSpPr>
          <p:spPr>
            <a:xfrm flipH="1">
              <a:off x="2362320" y="281952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9" name="Rectangle 54"/>
            <p:cNvSpPr/>
            <p:nvPr/>
          </p:nvSpPr>
          <p:spPr>
            <a:xfrm>
              <a:off x="1433880" y="3047040"/>
              <a:ext cx="1002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3 ADP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0" name="Rectangle 55"/>
            <p:cNvSpPr/>
            <p:nvPr/>
          </p:nvSpPr>
          <p:spPr>
            <a:xfrm>
              <a:off x="1462680" y="2589840"/>
              <a:ext cx="97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3 ATP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41" name="Rectangle 56"/>
          <p:cNvSpPr/>
          <p:nvPr/>
        </p:nvSpPr>
        <p:spPr>
          <a:xfrm>
            <a:off x="4800600" y="2286000"/>
            <a:ext cx="1143000" cy="304920"/>
          </a:xfrm>
          <a:prstGeom prst="rect">
            <a:avLst/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2" name="Rectangle 57"/>
          <p:cNvSpPr/>
          <p:nvPr/>
        </p:nvSpPr>
        <p:spPr>
          <a:xfrm>
            <a:off x="4727520" y="2208960"/>
            <a:ext cx="12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bisco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3" name="Rectangle 58"/>
          <p:cNvSpPr/>
          <p:nvPr/>
        </p:nvSpPr>
        <p:spPr>
          <a:xfrm>
            <a:off x="6410520" y="1532160"/>
            <a:ext cx="2539800" cy="429120"/>
          </a:xfrm>
          <a:prstGeom prst="rect">
            <a:avLst/>
          </a:prstGeom>
          <a:solidFill>
            <a:srgbClr val="b7c1eb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1. Carbon fixatio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4" name="Rectangle 59"/>
          <p:cNvSpPr/>
          <p:nvPr/>
        </p:nvSpPr>
        <p:spPr>
          <a:xfrm>
            <a:off x="281160" y="4961160"/>
            <a:ext cx="1857240" cy="429120"/>
          </a:xfrm>
          <a:prstGeom prst="rect">
            <a:avLst/>
          </a:prstGeom>
          <a:solidFill>
            <a:srgbClr val="b7c1eb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2. Reductio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5" name="Rectangle 60"/>
          <p:cNvSpPr/>
          <p:nvPr/>
        </p:nvSpPr>
        <p:spPr>
          <a:xfrm>
            <a:off x="451800" y="1669680"/>
            <a:ext cx="2354040" cy="764280"/>
          </a:xfrm>
          <a:prstGeom prst="rect">
            <a:avLst/>
          </a:prstGeom>
          <a:solidFill>
            <a:srgbClr val="b7c1eb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3. Regeneration 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of RuBP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6" name="Rectangle 61"/>
          <p:cNvSpPr/>
          <p:nvPr/>
        </p:nvSpPr>
        <p:spPr>
          <a:xfrm>
            <a:off x="2789280" y="1406880"/>
            <a:ext cx="165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bulose 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sphosphate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7" name="Rectangle 62"/>
          <p:cNvSpPr/>
          <p:nvPr/>
        </p:nvSpPr>
        <p:spPr>
          <a:xfrm>
            <a:off x="4055400" y="2795040"/>
            <a:ext cx="1966680" cy="11455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enzyme that 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nds C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RuBP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8" name="Line 63"/>
          <p:cNvSpPr/>
          <p:nvPr/>
        </p:nvSpPr>
        <p:spPr>
          <a:xfrm flipH="1">
            <a:off x="228240" y="3962520"/>
            <a:ext cx="304920" cy="304560"/>
          </a:xfrm>
          <a:prstGeom prst="line">
            <a:avLst/>
          </a:prstGeom>
          <a:ln w="28440">
            <a:solidFill>
              <a:srgbClr val="66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9" name="Line 64"/>
          <p:cNvSpPr/>
          <p:nvPr/>
        </p:nvSpPr>
        <p:spPr>
          <a:xfrm>
            <a:off x="646920" y="3899520"/>
            <a:ext cx="360" cy="430920"/>
          </a:xfrm>
          <a:prstGeom prst="line">
            <a:avLst/>
          </a:prstGeom>
          <a:ln w="28440">
            <a:solidFill>
              <a:srgbClr val="66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0" name="Line 65"/>
          <p:cNvSpPr/>
          <p:nvPr/>
        </p:nvSpPr>
        <p:spPr>
          <a:xfrm>
            <a:off x="762120" y="3962520"/>
            <a:ext cx="304560" cy="304560"/>
          </a:xfrm>
          <a:prstGeom prst="line">
            <a:avLst/>
          </a:prstGeom>
          <a:ln w="28440">
            <a:solidFill>
              <a:srgbClr val="66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1" name="Rectangle 67"/>
          <p:cNvSpPr/>
          <p:nvPr/>
        </p:nvSpPr>
        <p:spPr>
          <a:xfrm>
            <a:off x="168120" y="4275360"/>
            <a:ext cx="10479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sucros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cellulos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cxnSp>
        <p:nvCxnSpPr>
          <p:cNvPr id="752" name="Straight Arrow Connector 4"/>
          <p:cNvCxnSpPr/>
          <p:nvPr/>
        </p:nvCxnSpPr>
        <p:spPr>
          <a:xfrm flipV="1">
            <a:off x="5943240" y="1969560"/>
            <a:ext cx="656280" cy="88344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lvin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GAL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mportant intermediat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 turns of Calvin Cycle = 1 gluco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GAL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carbohydrat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lip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amino ac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nucleic ac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2" descr=""/>
          <p:cNvPicPr/>
          <p:nvPr/>
        </p:nvPicPr>
        <p:blipFill>
          <a:blip r:embed="rId1"/>
          <a:srcRect l="0" t="0" r="0" b="3446"/>
          <a:stretch/>
        </p:blipFill>
        <p:spPr>
          <a:xfrm>
            <a:off x="4430880" y="380880"/>
            <a:ext cx="4524120" cy="2971800"/>
          </a:xfrm>
          <a:prstGeom prst="rect">
            <a:avLst/>
          </a:prstGeom>
          <a:ln w="0">
            <a:noFill/>
          </a:ln>
        </p:spPr>
      </p:pic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Light rea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d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f116a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s by produc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d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GA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generated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generated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N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58" name="Group 9"/>
          <p:cNvGrpSpPr/>
          <p:nvPr/>
        </p:nvGrpSpPr>
        <p:grpSpPr>
          <a:xfrm>
            <a:off x="5446800" y="5105520"/>
            <a:ext cx="1487520" cy="1523880"/>
            <a:chOff x="5446800" y="5105520"/>
            <a:chExt cx="1487520" cy="1523880"/>
          </a:xfrm>
        </p:grpSpPr>
        <p:pic>
          <p:nvPicPr>
            <p:cNvPr id="759" name="Picture 10" descr=""/>
            <p:cNvPicPr/>
            <p:nvPr/>
          </p:nvPicPr>
          <p:blipFill>
            <a:blip r:embed="rId2"/>
            <a:stretch/>
          </p:blipFill>
          <p:spPr>
            <a:xfrm>
              <a:off x="5446800" y="5105520"/>
              <a:ext cx="1487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Oval 11"/>
            <p:cNvSpPr/>
            <p:nvPr/>
          </p:nvSpPr>
          <p:spPr>
            <a:xfrm>
              <a:off x="5580360" y="5600880"/>
              <a:ext cx="1218960" cy="533160"/>
            </a:xfrm>
            <a:prstGeom prst="ellipse">
              <a:avLst/>
            </a:prstGeom>
            <a:solidFill>
              <a:srgbClr val="b7c1e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61" name="Rectangle 12"/>
            <p:cNvSpPr/>
            <p:nvPr/>
          </p:nvSpPr>
          <p:spPr>
            <a:xfrm>
              <a:off x="5725800" y="560628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DP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62" name="Group 5"/>
          <p:cNvGrpSpPr/>
          <p:nvPr/>
        </p:nvGrpSpPr>
        <p:grpSpPr>
          <a:xfrm>
            <a:off x="7162920" y="5105520"/>
            <a:ext cx="1487520" cy="1523880"/>
            <a:chOff x="7162920" y="5105520"/>
            <a:chExt cx="1487520" cy="1523880"/>
          </a:xfrm>
        </p:grpSpPr>
        <p:pic>
          <p:nvPicPr>
            <p:cNvPr id="763" name="Picture 6" descr=""/>
            <p:cNvPicPr/>
            <p:nvPr/>
          </p:nvPicPr>
          <p:blipFill>
            <a:blip r:embed="rId3"/>
            <a:stretch/>
          </p:blipFill>
          <p:spPr>
            <a:xfrm>
              <a:off x="7162920" y="5105520"/>
              <a:ext cx="1487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Oval 7"/>
            <p:cNvSpPr/>
            <p:nvPr/>
          </p:nvSpPr>
          <p:spPr>
            <a:xfrm>
              <a:off x="7296480" y="5600880"/>
              <a:ext cx="1218960" cy="533160"/>
            </a:xfrm>
            <a:prstGeom prst="ellipse">
              <a:avLst/>
            </a:prstGeom>
            <a:solidFill>
              <a:srgbClr val="b7c1e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65" name="Rectangle 8"/>
            <p:cNvSpPr/>
            <p:nvPr/>
          </p:nvSpPr>
          <p:spPr>
            <a:xfrm>
              <a:off x="7314120" y="5606280"/>
              <a:ext cx="118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ADP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actors that affect Photo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34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nzymes are responsible for several photosynthetic processes, therefore, </a:t>
            </a:r>
            <a:r>
              <a:rPr b="1" lang="en-US" sz="2600" spc="-1" strike="noStrike">
                <a:solidFill>
                  <a:srgbClr val="cb0c0e"/>
                </a:solidFill>
                <a:latin typeface="Arial"/>
              </a:rPr>
              <a:t>temperature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cb0c0e"/>
                </a:solidFill>
                <a:latin typeface="Arial"/>
              </a:rPr>
              <a:t>pH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an affect the rate of photosynthesis.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e amount and type of </a:t>
            </a:r>
            <a:r>
              <a:rPr b="1" lang="en-US" sz="2600" spc="-1" strike="noStrike">
                <a:solidFill>
                  <a:srgbClr val="cb0c0e"/>
                </a:solidFill>
                <a:latin typeface="Arial"/>
              </a:rPr>
              <a:t>light 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n affect the rate.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 shortage of any of the reactants,</a:t>
            </a:r>
            <a:r>
              <a:rPr b="1" lang="en-US" sz="2600" spc="-1" strike="noStrike">
                <a:solidFill>
                  <a:srgbClr val="cb0c0e"/>
                </a:solidFill>
                <a:latin typeface="Arial"/>
              </a:rPr>
              <a:t>CO</a:t>
            </a:r>
            <a:r>
              <a:rPr b="1" lang="en-US" sz="1700" spc="-1" strike="noStrike">
                <a:solidFill>
                  <a:srgbClr val="cb0c0e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and/or </a:t>
            </a:r>
            <a:r>
              <a:rPr b="1" lang="en-US" sz="2600" spc="-1" strike="noStrike">
                <a:solidFill>
                  <a:srgbClr val="cb0c0e"/>
                </a:solidFill>
                <a:latin typeface="Arial"/>
              </a:rPr>
              <a:t>H</a:t>
            </a:r>
            <a:r>
              <a:rPr b="1" lang="en-US" sz="1700" spc="-1" strike="noStrike">
                <a:solidFill>
                  <a:srgbClr val="cb0c0e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cb0c0e"/>
                </a:solidFill>
                <a:latin typeface="Arial"/>
              </a:rPr>
              <a:t>O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, can affect the rate.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768" name="Picture 4" descr=""/>
          <p:cNvPicPr/>
          <p:nvPr/>
        </p:nvPicPr>
        <p:blipFill>
          <a:blip r:embed="rId1"/>
          <a:stretch/>
        </p:blipFill>
        <p:spPr>
          <a:xfrm>
            <a:off x="5214960" y="4613400"/>
            <a:ext cx="380052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are they connected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568" name="Group 3"/>
          <p:cNvGrpSpPr/>
          <p:nvPr/>
        </p:nvGrpSpPr>
        <p:grpSpPr>
          <a:xfrm>
            <a:off x="716040" y="2134440"/>
            <a:ext cx="7772400" cy="1677240"/>
            <a:chOff x="716040" y="2134440"/>
            <a:chExt cx="7772400" cy="1677240"/>
          </a:xfrm>
        </p:grpSpPr>
        <p:grpSp>
          <p:nvGrpSpPr>
            <p:cNvPr id="569" name="Group 4"/>
            <p:cNvGrpSpPr/>
            <p:nvPr/>
          </p:nvGrpSpPr>
          <p:grpSpPr>
            <a:xfrm>
              <a:off x="716040" y="2134440"/>
              <a:ext cx="7772400" cy="871200"/>
              <a:chOff x="716040" y="2134440"/>
              <a:chExt cx="7772400" cy="871200"/>
            </a:xfrm>
          </p:grpSpPr>
          <p:sp>
            <p:nvSpPr>
              <p:cNvPr id="570" name="Rectangle 5"/>
              <p:cNvSpPr/>
              <p:nvPr/>
            </p:nvSpPr>
            <p:spPr>
              <a:xfrm>
                <a:off x="716040" y="2135160"/>
                <a:ext cx="7772400" cy="762120"/>
              </a:xfrm>
              <a:prstGeom prst="rect">
                <a:avLst/>
              </a:prstGeom>
              <a:solidFill>
                <a:srgbClr val="ffe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571" name="Group 6"/>
              <p:cNvGrpSpPr/>
              <p:nvPr/>
            </p:nvGrpSpPr>
            <p:grpSpPr>
              <a:xfrm>
                <a:off x="868680" y="2134440"/>
                <a:ext cx="7272000" cy="871200"/>
                <a:chOff x="868680" y="2134440"/>
                <a:chExt cx="7272000" cy="871200"/>
              </a:xfrm>
            </p:grpSpPr>
            <p:sp>
              <p:nvSpPr>
                <p:cNvPr id="572" name="Rectangle 7"/>
                <p:cNvSpPr/>
                <p:nvPr/>
              </p:nvSpPr>
              <p:spPr>
                <a:xfrm>
                  <a:off x="868680" y="2134440"/>
                  <a:ext cx="72720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glucose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oxygen </a:t>
                  </a: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carbon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water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energy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73" name="Rectangle 8"/>
                <p:cNvSpPr/>
                <p:nvPr/>
              </p:nvSpPr>
              <p:spPr>
                <a:xfrm>
                  <a:off x="4174920" y="2515680"/>
                  <a:ext cx="134064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dioxide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4" name="Group 9"/>
            <p:cNvGrpSpPr/>
            <p:nvPr/>
          </p:nvGrpSpPr>
          <p:grpSpPr>
            <a:xfrm>
              <a:off x="716040" y="2897280"/>
              <a:ext cx="7772400" cy="914400"/>
              <a:chOff x="716040" y="2897280"/>
              <a:chExt cx="7772400" cy="914400"/>
            </a:xfrm>
          </p:grpSpPr>
          <p:sp>
            <p:nvSpPr>
              <p:cNvPr id="575" name="Rectangle 10"/>
              <p:cNvSpPr/>
              <p:nvPr/>
            </p:nvSpPr>
            <p:spPr>
              <a:xfrm>
                <a:off x="716040" y="2897280"/>
                <a:ext cx="7772400" cy="91440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576" name="Group 11"/>
              <p:cNvGrpSpPr/>
              <p:nvPr/>
            </p:nvGrpSpPr>
            <p:grpSpPr>
              <a:xfrm>
                <a:off x="895680" y="3087360"/>
                <a:ext cx="7065360" cy="550800"/>
                <a:chOff x="895680" y="3087360"/>
                <a:chExt cx="7065360" cy="550800"/>
              </a:xfrm>
            </p:grpSpPr>
            <p:sp>
              <p:nvSpPr>
                <p:cNvPr id="577" name="Rectangle 12"/>
                <p:cNvSpPr/>
                <p:nvPr/>
              </p:nvSpPr>
              <p:spPr>
                <a:xfrm>
                  <a:off x="895680" y="3090240"/>
                  <a:ext cx="134352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C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H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12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78" name="Rectangle 13"/>
                <p:cNvSpPr/>
                <p:nvPr/>
              </p:nvSpPr>
              <p:spPr>
                <a:xfrm>
                  <a:off x="2796840" y="3090240"/>
                  <a:ext cx="7293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79" name="Rectangle 14"/>
                <p:cNvSpPr/>
                <p:nvPr/>
              </p:nvSpPr>
              <p:spPr>
                <a:xfrm>
                  <a:off x="4402800" y="309024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C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80" name="Rectangle 15"/>
                <p:cNvSpPr/>
                <p:nvPr/>
              </p:nvSpPr>
              <p:spPr>
                <a:xfrm>
                  <a:off x="5736600" y="309024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H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81" name="Rectangle 16"/>
                <p:cNvSpPr/>
                <p:nvPr/>
              </p:nvSpPr>
              <p:spPr>
                <a:xfrm>
                  <a:off x="7117200" y="3117600"/>
                  <a:ext cx="84384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ATP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82" name="Rectangle 17"/>
                <p:cNvSpPr/>
                <p:nvPr/>
              </p:nvSpPr>
              <p:spPr>
                <a:xfrm>
                  <a:off x="3772080" y="3087360"/>
                  <a:ext cx="4899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30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83" name="Rectangle 18"/>
                <p:cNvSpPr/>
                <p:nvPr/>
              </p:nvSpPr>
              <p:spPr>
                <a:xfrm>
                  <a:off x="2245680" y="311760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84" name="Rectangle 19"/>
                <p:cNvSpPr/>
                <p:nvPr/>
              </p:nvSpPr>
              <p:spPr>
                <a:xfrm>
                  <a:off x="5365080" y="311760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85" name="Rectangle 20"/>
                <p:cNvSpPr/>
                <p:nvPr/>
              </p:nvSpPr>
              <p:spPr>
                <a:xfrm>
                  <a:off x="6639840" y="311760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86" name="Rectangle 21"/>
          <p:cNvSpPr/>
          <p:nvPr/>
        </p:nvSpPr>
        <p:spPr>
          <a:xfrm>
            <a:off x="274680" y="1220040"/>
            <a:ext cx="630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eterotrophs and Autotroph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87" name="Group 22"/>
          <p:cNvGrpSpPr/>
          <p:nvPr/>
        </p:nvGrpSpPr>
        <p:grpSpPr>
          <a:xfrm>
            <a:off x="716040" y="4901400"/>
            <a:ext cx="7772400" cy="1677240"/>
            <a:chOff x="716040" y="4901400"/>
            <a:chExt cx="7772400" cy="1677240"/>
          </a:xfrm>
        </p:grpSpPr>
        <p:grpSp>
          <p:nvGrpSpPr>
            <p:cNvPr id="588" name="Group 23"/>
            <p:cNvGrpSpPr/>
            <p:nvPr/>
          </p:nvGrpSpPr>
          <p:grpSpPr>
            <a:xfrm>
              <a:off x="716040" y="4901400"/>
              <a:ext cx="7772400" cy="838800"/>
              <a:chOff x="716040" y="4901400"/>
              <a:chExt cx="7772400" cy="838800"/>
            </a:xfrm>
          </p:grpSpPr>
          <p:sp>
            <p:nvSpPr>
              <p:cNvPr id="589" name="Rectangle 24"/>
              <p:cNvSpPr/>
              <p:nvPr/>
            </p:nvSpPr>
            <p:spPr>
              <a:xfrm>
                <a:off x="716040" y="4902120"/>
                <a:ext cx="7772400" cy="7617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590" name="Group 25"/>
              <p:cNvGrpSpPr/>
              <p:nvPr/>
            </p:nvGrpSpPr>
            <p:grpSpPr>
              <a:xfrm>
                <a:off x="792000" y="4901400"/>
                <a:ext cx="7361640" cy="838800"/>
                <a:chOff x="792000" y="4901400"/>
                <a:chExt cx="7361640" cy="838800"/>
              </a:xfrm>
            </p:grpSpPr>
            <p:sp>
              <p:nvSpPr>
                <p:cNvPr id="591" name="Rectangle 26"/>
                <p:cNvSpPr/>
                <p:nvPr/>
              </p:nvSpPr>
              <p:spPr>
                <a:xfrm>
                  <a:off x="2077920" y="4901400"/>
                  <a:ext cx="60757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water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energy </a:t>
                  </a: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glucose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oxygen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92" name="Rectangle 27"/>
                <p:cNvSpPr/>
                <p:nvPr/>
              </p:nvSpPr>
              <p:spPr>
                <a:xfrm>
                  <a:off x="792000" y="4933440"/>
                  <a:ext cx="1340640" cy="80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carbon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dioxide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Group 28"/>
            <p:cNvGrpSpPr/>
            <p:nvPr/>
          </p:nvGrpSpPr>
          <p:grpSpPr>
            <a:xfrm>
              <a:off x="716040" y="5664240"/>
              <a:ext cx="7772400" cy="914400"/>
              <a:chOff x="716040" y="5664240"/>
              <a:chExt cx="7772400" cy="914400"/>
            </a:xfrm>
          </p:grpSpPr>
          <p:sp>
            <p:nvSpPr>
              <p:cNvPr id="594" name="Rectangle 29"/>
              <p:cNvSpPr/>
              <p:nvPr/>
            </p:nvSpPr>
            <p:spPr>
              <a:xfrm>
                <a:off x="716040" y="5664240"/>
                <a:ext cx="7772400" cy="91440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595" name="Group 30"/>
              <p:cNvGrpSpPr/>
              <p:nvPr/>
            </p:nvGrpSpPr>
            <p:grpSpPr>
              <a:xfrm>
                <a:off x="1034280" y="5848200"/>
                <a:ext cx="6743160" cy="727560"/>
                <a:chOff x="1034280" y="5848200"/>
                <a:chExt cx="6743160" cy="727560"/>
              </a:xfrm>
            </p:grpSpPr>
            <p:sp>
              <p:nvSpPr>
                <p:cNvPr id="596" name="Rectangle 31"/>
                <p:cNvSpPr/>
                <p:nvPr/>
              </p:nvSpPr>
              <p:spPr>
                <a:xfrm>
                  <a:off x="1034280" y="585720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C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97" name="Rectangle 32"/>
                <p:cNvSpPr/>
                <p:nvPr/>
              </p:nvSpPr>
              <p:spPr>
                <a:xfrm>
                  <a:off x="2426400" y="585720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H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98" name="Rectangle 33"/>
                <p:cNvSpPr/>
                <p:nvPr/>
              </p:nvSpPr>
              <p:spPr>
                <a:xfrm>
                  <a:off x="5317560" y="5874480"/>
                  <a:ext cx="1253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"/>
                    </a:rPr>
                    <a:t>H</a:t>
                  </a:r>
                  <a:r>
                    <a:rPr b="1" lang="en-US" sz="2400" spc="-1" strike="noStrike" baseline="-25000">
                      <a:solidFill>
                        <a:srgbClr val="cc0000"/>
                      </a:solidFill>
                      <a:latin typeface="Arial"/>
                    </a:rPr>
                    <a:t>12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4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99" name="Rectangle 34"/>
                <p:cNvSpPr/>
                <p:nvPr/>
              </p:nvSpPr>
              <p:spPr>
                <a:xfrm>
                  <a:off x="7048080" y="5857200"/>
                  <a:ext cx="7293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00" name="Rectangle 35"/>
                <p:cNvSpPr/>
                <p:nvPr/>
              </p:nvSpPr>
              <p:spPr>
                <a:xfrm>
                  <a:off x="3535560" y="5848200"/>
                  <a:ext cx="126720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light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energy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01" name="Rectangle 36"/>
                <p:cNvSpPr/>
                <p:nvPr/>
              </p:nvSpPr>
              <p:spPr>
                <a:xfrm>
                  <a:off x="4789800" y="5853960"/>
                  <a:ext cx="4899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30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02" name="Rectangle 37"/>
                <p:cNvSpPr/>
                <p:nvPr/>
              </p:nvSpPr>
              <p:spPr>
                <a:xfrm>
                  <a:off x="2039040" y="588456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03" name="Rectangle 38"/>
                <p:cNvSpPr/>
                <p:nvPr/>
              </p:nvSpPr>
              <p:spPr>
                <a:xfrm>
                  <a:off x="6584040" y="588456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04" name="Rectangle 39"/>
                <p:cNvSpPr/>
                <p:nvPr/>
              </p:nvSpPr>
              <p:spPr>
                <a:xfrm>
                  <a:off x="3334680" y="588456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5" name="Rectangle 40"/>
          <p:cNvSpPr/>
          <p:nvPr/>
        </p:nvSpPr>
        <p:spPr>
          <a:xfrm>
            <a:off x="716760" y="4063320"/>
            <a:ext cx="22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Autotroph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6" name="Rectangle 41"/>
          <p:cNvSpPr/>
          <p:nvPr/>
        </p:nvSpPr>
        <p:spPr>
          <a:xfrm>
            <a:off x="714240" y="4444200"/>
            <a:ext cx="66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making energy &amp; organic molecules from light energy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7" name="Rectangle 42"/>
          <p:cNvSpPr/>
          <p:nvPr/>
        </p:nvSpPr>
        <p:spPr>
          <a:xfrm>
            <a:off x="716400" y="1677240"/>
            <a:ext cx="78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king energy &amp; organic molecules from ingesting organic molecule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08" name="Picture 43" descr="penguinL"/>
          <p:cNvPicPr/>
          <p:nvPr/>
        </p:nvPicPr>
        <p:blipFill>
          <a:blip r:embed="rId1"/>
          <a:stretch/>
        </p:blipFill>
        <p:spPr>
          <a:xfrm>
            <a:off x="7869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09" name="AutoShape 44"/>
          <p:cNvSpPr/>
          <p:nvPr/>
        </p:nvSpPr>
        <p:spPr>
          <a:xfrm>
            <a:off x="7702560" y="3933720"/>
            <a:ext cx="1441440" cy="1017720"/>
          </a:xfrm>
          <a:prstGeom prst="wedgeEllipseCallout">
            <a:avLst>
              <a:gd name="adj1" fmla="val -11453"/>
              <a:gd name="adj2" fmla="val 12051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ere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’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ATP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10" name="Freeform 63"/>
          <p:cNvSpPr/>
          <p:nvPr/>
        </p:nvSpPr>
        <p:spPr>
          <a:xfrm>
            <a:off x="1492200" y="3508200"/>
            <a:ext cx="3413160" cy="468360"/>
          </a:xfrm>
          <a:custGeom>
            <a:avLst/>
            <a:gdLst/>
            <a:ahLst/>
            <a:rect l="l" t="t" r="r" b="b"/>
            <a:pathLst>
              <a:path w="2175" h="295">
                <a:moveTo>
                  <a:pt x="0" y="100"/>
                </a:moveTo>
                <a:lnTo>
                  <a:pt x="0" y="295"/>
                </a:lnTo>
                <a:lnTo>
                  <a:pt x="2175" y="295"/>
                </a:lnTo>
                <a:lnTo>
                  <a:pt x="2175" y="0"/>
                </a:lnTo>
              </a:path>
            </a:pathLst>
          </a:custGeom>
          <a:noFill/>
          <a:ln w="57240">
            <a:solidFill>
              <a:srgbClr val="66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11" name="Freeform 64"/>
          <p:cNvSpPr/>
          <p:nvPr/>
        </p:nvSpPr>
        <p:spPr>
          <a:xfrm>
            <a:off x="1531800" y="6222960"/>
            <a:ext cx="4310280" cy="420840"/>
          </a:xfrm>
          <a:custGeom>
            <a:avLst/>
            <a:gdLst/>
            <a:ahLst/>
            <a:rect l="l" t="t" r="r" b="b"/>
            <a:pathLst>
              <a:path w="2175" h="295">
                <a:moveTo>
                  <a:pt x="0" y="100"/>
                </a:moveTo>
                <a:lnTo>
                  <a:pt x="0" y="295"/>
                </a:lnTo>
                <a:lnTo>
                  <a:pt x="2175" y="295"/>
                </a:lnTo>
                <a:lnTo>
                  <a:pt x="2175" y="0"/>
                </a:lnTo>
              </a:path>
            </a:pathLst>
          </a:custGeom>
          <a:noFill/>
          <a:ln w="57240">
            <a:solidFill>
              <a:srgbClr val="00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12" name="Rectangle 65"/>
          <p:cNvSpPr/>
          <p:nvPr/>
        </p:nvSpPr>
        <p:spPr>
          <a:xfrm>
            <a:off x="2626560" y="3794040"/>
            <a:ext cx="1239840" cy="3142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9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rgonic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13" name="Rectangle 66"/>
          <p:cNvSpPr/>
          <p:nvPr/>
        </p:nvSpPr>
        <p:spPr>
          <a:xfrm>
            <a:off x="2996280" y="6540480"/>
            <a:ext cx="1409040" cy="3142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9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ergonic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pporting a biosphe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n global scale,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tosynthesis is th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st important proces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 the continuation of life on Eart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ch year photosynthesis synthesiz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160 billion tons of carbohydrat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eterotrophs are dependent on plants as food source for fuel &amp; raw materia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771" name="Picture 4" descr=""/>
          <p:cNvPicPr/>
          <p:nvPr/>
        </p:nvPicPr>
        <p:blipFill>
          <a:blip r:embed="rId1"/>
          <a:srcRect l="11702" t="0" r="9000" b="0"/>
          <a:stretch/>
        </p:blipFill>
        <p:spPr>
          <a:xfrm>
            <a:off x="6400800" y="380880"/>
            <a:ext cx="26668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3030120" y="2193120"/>
            <a:ext cx="3018240" cy="5508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648880" y="4876200"/>
            <a:ext cx="37774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75" name="Group 5"/>
          <p:cNvGrpSpPr/>
          <p:nvPr/>
        </p:nvGrpSpPr>
        <p:grpSpPr>
          <a:xfrm>
            <a:off x="617400" y="3537720"/>
            <a:ext cx="7837560" cy="544680"/>
            <a:chOff x="617400" y="3537720"/>
            <a:chExt cx="7837560" cy="544680"/>
          </a:xfrm>
        </p:grpSpPr>
        <p:sp>
          <p:nvSpPr>
            <p:cNvPr id="776" name="Rectangle 6"/>
            <p:cNvSpPr/>
            <p:nvPr/>
          </p:nvSpPr>
          <p:spPr>
            <a:xfrm>
              <a:off x="5790600" y="3565080"/>
              <a:ext cx="1433520" cy="48996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77" name="Rectangle 7"/>
            <p:cNvSpPr/>
            <p:nvPr/>
          </p:nvSpPr>
          <p:spPr>
            <a:xfrm>
              <a:off x="7910280" y="3537720"/>
              <a:ext cx="544680" cy="54468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78" name="Rectangle 8"/>
            <p:cNvSpPr/>
            <p:nvPr/>
          </p:nvSpPr>
          <p:spPr>
            <a:xfrm>
              <a:off x="1946160" y="3537720"/>
              <a:ext cx="784080" cy="54468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79" name="Rectangle 9"/>
            <p:cNvSpPr/>
            <p:nvPr/>
          </p:nvSpPr>
          <p:spPr>
            <a:xfrm>
              <a:off x="617400" y="3537720"/>
              <a:ext cx="784080" cy="54468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80" name="Group 10"/>
          <p:cNvGrpSpPr/>
          <p:nvPr/>
        </p:nvGrpSpPr>
        <p:grpSpPr>
          <a:xfrm>
            <a:off x="4876920" y="5715000"/>
            <a:ext cx="1752480" cy="990720"/>
            <a:chOff x="4876920" y="5715000"/>
            <a:chExt cx="1752480" cy="990720"/>
          </a:xfrm>
        </p:grpSpPr>
        <p:sp>
          <p:nvSpPr>
            <p:cNvPr id="781" name="AutoShape 11"/>
            <p:cNvSpPr/>
            <p:nvPr/>
          </p:nvSpPr>
          <p:spPr>
            <a:xfrm>
              <a:off x="4876920" y="5715000"/>
              <a:ext cx="1752480" cy="990720"/>
            </a:xfrm>
            <a:prstGeom prst="sun">
              <a:avLst>
                <a:gd name="adj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82" name="Rectangle 12"/>
            <p:cNvSpPr/>
            <p:nvPr/>
          </p:nvSpPr>
          <p:spPr>
            <a:xfrm>
              <a:off x="5331240" y="5965560"/>
              <a:ext cx="843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83" name="Group 13"/>
          <p:cNvGrpSpPr/>
          <p:nvPr/>
        </p:nvGrpSpPr>
        <p:grpSpPr>
          <a:xfrm>
            <a:off x="5715000" y="762120"/>
            <a:ext cx="1752480" cy="990360"/>
            <a:chOff x="5715000" y="762120"/>
            <a:chExt cx="1752480" cy="990360"/>
          </a:xfrm>
        </p:grpSpPr>
        <p:sp>
          <p:nvSpPr>
            <p:cNvPr id="784" name="AutoShape 14"/>
            <p:cNvSpPr/>
            <p:nvPr/>
          </p:nvSpPr>
          <p:spPr>
            <a:xfrm>
              <a:off x="5715000" y="762120"/>
              <a:ext cx="1752480" cy="990360"/>
            </a:xfrm>
            <a:prstGeom prst="sun">
              <a:avLst>
                <a:gd name="adj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85" name="Rectangle 15"/>
            <p:cNvSpPr/>
            <p:nvPr/>
          </p:nvSpPr>
          <p:spPr>
            <a:xfrm>
              <a:off x="6205680" y="990360"/>
              <a:ext cx="770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sun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86" name="AutoShape 16"/>
          <p:cNvSpPr/>
          <p:nvPr/>
        </p:nvSpPr>
        <p:spPr>
          <a:xfrm flipH="1">
            <a:off x="5105520" y="1371600"/>
            <a:ext cx="1295280" cy="83808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122760 h 838080"/>
              <a:gd name="textAreaBottom" fmla="*/ 715320 h 838080"/>
            </a:gdLst>
            <a:ahLst/>
            <a:rect l="textAreaLeft" t="textAreaTop" r="textAreaRight" b="textAreaBottom"/>
            <a:pathLst>
              <a:path w="21600" h="21600">
                <a:moveTo>
                  <a:pt x="17735" y="10800"/>
                </a:moveTo>
                <a:cubicBezTo>
                  <a:pt x="17735" y="6969"/>
                  <a:pt x="14630" y="3865"/>
                  <a:pt x="10800" y="3865"/>
                </a:cubicBezTo>
                <a:cubicBezTo>
                  <a:pt x="10618" y="3864"/>
                  <a:pt x="10437" y="3872"/>
                  <a:pt x="10256" y="3886"/>
                </a:cubicBezTo>
                <a:lnTo>
                  <a:pt x="9954" y="33"/>
                </a:lnTo>
                <a:cubicBezTo>
                  <a:pt x="10235" y="11"/>
                  <a:pt x="10517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668" y="15433"/>
                </a:lnTo>
                <a:lnTo>
                  <a:pt x="15035" y="10800"/>
                </a:lnTo>
                <a:lnTo>
                  <a:pt x="17735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7" name="AutoShape 17"/>
          <p:cNvSpPr/>
          <p:nvPr/>
        </p:nvSpPr>
        <p:spPr>
          <a:xfrm>
            <a:off x="3733920" y="5486400"/>
            <a:ext cx="1295280" cy="83808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122760 h 838080"/>
              <a:gd name="textAreaBottom" fmla="*/ 715320 h 838080"/>
            </a:gdLst>
            <a:ahLst/>
            <a:rect l="textAreaLeft" t="textAreaTop" r="textAreaRight" b="textAreaBottom"/>
            <a:pathLst>
              <a:path w="21600" h="21600">
                <a:moveTo>
                  <a:pt x="17735" y="10800"/>
                </a:moveTo>
                <a:cubicBezTo>
                  <a:pt x="17735" y="6969"/>
                  <a:pt x="14630" y="3865"/>
                  <a:pt x="10800" y="3865"/>
                </a:cubicBezTo>
                <a:cubicBezTo>
                  <a:pt x="10618" y="3864"/>
                  <a:pt x="10437" y="3872"/>
                  <a:pt x="10256" y="3886"/>
                </a:cubicBezTo>
                <a:lnTo>
                  <a:pt x="9954" y="33"/>
                </a:lnTo>
                <a:cubicBezTo>
                  <a:pt x="10235" y="11"/>
                  <a:pt x="10517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668" y="15433"/>
                </a:lnTo>
                <a:lnTo>
                  <a:pt x="15035" y="10800"/>
                </a:lnTo>
                <a:lnTo>
                  <a:pt x="17735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8" name="AutoShape 18"/>
          <p:cNvSpPr/>
          <p:nvPr/>
        </p:nvSpPr>
        <p:spPr>
          <a:xfrm flipH="1" flipV="1" rot="5400000">
            <a:off x="1675080" y="2513880"/>
            <a:ext cx="1295640" cy="1600200"/>
          </a:xfrm>
          <a:custGeom>
            <a:avLst/>
            <a:gdLst>
              <a:gd name="textAreaLeft" fmla="*/ 189720 w 1295640"/>
              <a:gd name="textAreaRight" fmla="*/ 1105920 w 1295640"/>
              <a:gd name="textAreaTop" fmla="*/ 234360 h 1600200"/>
              <a:gd name="textAreaBottom" fmla="*/ 1365840 h 1600200"/>
            </a:gdLst>
            <a:ahLst/>
            <a:rect l="textAreaLeft" t="textAreaTop" r="textAreaRight" b="textAreaBottom"/>
            <a:pathLst>
              <a:path w="21600" h="21600">
                <a:moveTo>
                  <a:pt x="19057" y="10798"/>
                </a:moveTo>
                <a:cubicBezTo>
                  <a:pt x="19057" y="6254"/>
                  <a:pt x="15384" y="2563"/>
                  <a:pt x="10839" y="2542"/>
                </a:cubicBezTo>
                <a:lnTo>
                  <a:pt x="10851" y="0"/>
                </a:lnTo>
                <a:cubicBezTo>
                  <a:pt x="16795" y="28"/>
                  <a:pt x="21599" y="4854"/>
                  <a:pt x="21599" y="10798"/>
                </a:cubicBezTo>
                <a:lnTo>
                  <a:pt x="24299" y="10798"/>
                </a:lnTo>
                <a:lnTo>
                  <a:pt x="20329" y="14769"/>
                </a:lnTo>
                <a:lnTo>
                  <a:pt x="16357" y="10799"/>
                </a:lnTo>
                <a:lnTo>
                  <a:pt x="19057" y="10798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9" name="AutoShape 19"/>
          <p:cNvSpPr/>
          <p:nvPr/>
        </p:nvSpPr>
        <p:spPr>
          <a:xfrm flipH="1" flipV="1" rot="10800000">
            <a:off x="6323400" y="2513520"/>
            <a:ext cx="1295640" cy="1600200"/>
          </a:xfrm>
          <a:custGeom>
            <a:avLst/>
            <a:gdLst>
              <a:gd name="textAreaLeft" fmla="*/ 189720 w 1295640"/>
              <a:gd name="textAreaRight" fmla="*/ 1105920 w 1295640"/>
              <a:gd name="textAreaTop" fmla="*/ 234360 h 1600200"/>
              <a:gd name="textAreaBottom" fmla="*/ 1365840 h 1600200"/>
            </a:gdLst>
            <a:ahLst/>
            <a:rect l="textAreaLeft" t="textAreaTop" r="textAreaRight" b="textAreaBottom"/>
            <a:pathLst>
              <a:path w="21600" h="21600">
                <a:moveTo>
                  <a:pt x="19057" y="10798"/>
                </a:moveTo>
                <a:cubicBezTo>
                  <a:pt x="19057" y="6254"/>
                  <a:pt x="15384" y="2563"/>
                  <a:pt x="10839" y="2542"/>
                </a:cubicBezTo>
                <a:lnTo>
                  <a:pt x="10851" y="0"/>
                </a:lnTo>
                <a:cubicBezTo>
                  <a:pt x="16795" y="28"/>
                  <a:pt x="21599" y="4854"/>
                  <a:pt x="21599" y="10798"/>
                </a:cubicBezTo>
                <a:lnTo>
                  <a:pt x="24299" y="10798"/>
                </a:lnTo>
                <a:lnTo>
                  <a:pt x="20329" y="14769"/>
                </a:lnTo>
                <a:lnTo>
                  <a:pt x="16357" y="10799"/>
                </a:lnTo>
                <a:lnTo>
                  <a:pt x="19057" y="10798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0" name="AutoShape 20"/>
          <p:cNvSpPr/>
          <p:nvPr/>
        </p:nvSpPr>
        <p:spPr>
          <a:xfrm flipH="1" flipV="1" rot="16200000">
            <a:off x="6171480" y="3733560"/>
            <a:ext cx="1295280" cy="160020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234360 h 1600200"/>
              <a:gd name="textAreaBottom" fmla="*/ 1365840 h 1600200"/>
            </a:gdLst>
            <a:ahLst/>
            <a:rect l="textAreaLeft" t="textAreaTop" r="textAreaRight" b="textAreaBottom"/>
            <a:pathLst>
              <a:path w="21600" h="21600">
                <a:moveTo>
                  <a:pt x="19057" y="10798"/>
                </a:moveTo>
                <a:cubicBezTo>
                  <a:pt x="19057" y="6254"/>
                  <a:pt x="15384" y="2563"/>
                  <a:pt x="10839" y="2542"/>
                </a:cubicBezTo>
                <a:lnTo>
                  <a:pt x="10851" y="0"/>
                </a:lnTo>
                <a:cubicBezTo>
                  <a:pt x="16795" y="28"/>
                  <a:pt x="21599" y="4854"/>
                  <a:pt x="21599" y="10798"/>
                </a:cubicBezTo>
                <a:lnTo>
                  <a:pt x="24299" y="10798"/>
                </a:lnTo>
                <a:lnTo>
                  <a:pt x="20329" y="14769"/>
                </a:lnTo>
                <a:lnTo>
                  <a:pt x="16357" y="10799"/>
                </a:lnTo>
                <a:lnTo>
                  <a:pt x="19057" y="10798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1" name="AutoShape 21"/>
          <p:cNvSpPr/>
          <p:nvPr/>
        </p:nvSpPr>
        <p:spPr>
          <a:xfrm flipH="1" flipV="1">
            <a:off x="1523160" y="3656880"/>
            <a:ext cx="1295640" cy="1600200"/>
          </a:xfrm>
          <a:custGeom>
            <a:avLst/>
            <a:gdLst>
              <a:gd name="textAreaLeft" fmla="*/ 189720 w 1295640"/>
              <a:gd name="textAreaRight" fmla="*/ 1105920 w 1295640"/>
              <a:gd name="textAreaTop" fmla="*/ 234360 h 1600200"/>
              <a:gd name="textAreaBottom" fmla="*/ 1365840 h 1600200"/>
            </a:gdLst>
            <a:ahLst/>
            <a:rect l="textAreaLeft" t="textAreaTop" r="textAreaRight" b="textAreaBottom"/>
            <a:pathLst>
              <a:path w="21600" h="21600">
                <a:moveTo>
                  <a:pt x="19057" y="10798"/>
                </a:moveTo>
                <a:cubicBezTo>
                  <a:pt x="19057" y="6254"/>
                  <a:pt x="15384" y="2563"/>
                  <a:pt x="10839" y="2542"/>
                </a:cubicBezTo>
                <a:lnTo>
                  <a:pt x="10851" y="0"/>
                </a:lnTo>
                <a:cubicBezTo>
                  <a:pt x="16795" y="28"/>
                  <a:pt x="21599" y="4854"/>
                  <a:pt x="21599" y="10798"/>
                </a:cubicBezTo>
                <a:lnTo>
                  <a:pt x="24299" y="10798"/>
                </a:lnTo>
                <a:lnTo>
                  <a:pt x="20329" y="14769"/>
                </a:lnTo>
                <a:lnTo>
                  <a:pt x="16357" y="10799"/>
                </a:lnTo>
                <a:lnTo>
                  <a:pt x="19057" y="10798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92" name="Group 25"/>
          <p:cNvGrpSpPr/>
          <p:nvPr/>
        </p:nvGrpSpPr>
        <p:grpSpPr>
          <a:xfrm>
            <a:off x="-360" y="5562720"/>
            <a:ext cx="3657600" cy="1295280"/>
            <a:chOff x="-360" y="5562720"/>
            <a:chExt cx="3657600" cy="1295280"/>
          </a:xfrm>
        </p:grpSpPr>
        <p:pic>
          <p:nvPicPr>
            <p:cNvPr id="793" name="Picture 23" descr="penguinL"/>
            <p:cNvPicPr/>
            <p:nvPr/>
          </p:nvPicPr>
          <p:blipFill>
            <a:blip r:embed="rId1"/>
            <a:stretch/>
          </p:blipFill>
          <p:spPr>
            <a:xfrm flipH="1">
              <a:off x="-360" y="5562720"/>
              <a:ext cx="1274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AutoShape 24"/>
            <p:cNvSpPr/>
            <p:nvPr/>
          </p:nvSpPr>
          <p:spPr>
            <a:xfrm flipH="1">
              <a:off x="1218600" y="5689440"/>
              <a:ext cx="2438280" cy="1067040"/>
            </a:xfrm>
            <a:prstGeom prst="wedgeEllipseCallout">
              <a:avLst>
                <a:gd name="adj1" fmla="val 62041"/>
                <a:gd name="adj2" fmla="val -25300"/>
              </a:avLst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2880" bIns="18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The Great Circle</a:t>
              </a:r>
              <a:br>
                <a:rPr sz="1600"/>
              </a:b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of Life!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Where</a:t>
              </a:r>
              <a:r>
                <a:rPr b="1" lang="en-US" sz="1600" spc="-1" strike="noStrike">
                  <a:solidFill>
                    <a:srgbClr val="0f116a"/>
                  </a:solidFill>
                  <a:latin typeface="Arial"/>
                  <a:ea typeface="ＭＳ Ｐゴシック"/>
                </a:rPr>
                <a:t>’</a:t>
              </a:r>
              <a:r>
                <a:rPr b="1" lang="en-US" sz="1600" spc="-1" strike="noStrike">
                  <a:solidFill>
                    <a:srgbClr val="0f116a"/>
                  </a:solidFill>
                  <a:latin typeface="Comic Sans MS"/>
                  <a:ea typeface="ＭＳ Ｐゴシック"/>
                </a:rPr>
                <a:t>s Mufasa?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mmary of photo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 go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energy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at’s the energy used for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at will the C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e used for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will the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at else is involved that is not listed in this equation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798" name="Group 4"/>
          <p:cNvGrpSpPr/>
          <p:nvPr/>
        </p:nvGrpSpPr>
        <p:grpSpPr>
          <a:xfrm>
            <a:off x="838080" y="1295280"/>
            <a:ext cx="7772400" cy="914400"/>
            <a:chOff x="838080" y="1295280"/>
            <a:chExt cx="7772400" cy="914400"/>
          </a:xfrm>
        </p:grpSpPr>
        <p:sp>
          <p:nvSpPr>
            <p:cNvPr id="799" name="Rectangle 5"/>
            <p:cNvSpPr/>
            <p:nvPr/>
          </p:nvSpPr>
          <p:spPr>
            <a:xfrm>
              <a:off x="838080" y="1295280"/>
              <a:ext cx="7772400" cy="91440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800" name="Group 6"/>
            <p:cNvGrpSpPr/>
            <p:nvPr/>
          </p:nvGrpSpPr>
          <p:grpSpPr>
            <a:xfrm>
              <a:off x="1156320" y="1479240"/>
              <a:ext cx="6743160" cy="727560"/>
              <a:chOff x="1156320" y="1479240"/>
              <a:chExt cx="6743160" cy="727560"/>
            </a:xfrm>
          </p:grpSpPr>
          <p:sp>
            <p:nvSpPr>
              <p:cNvPr id="801" name="Rectangle 7"/>
              <p:cNvSpPr/>
              <p:nvPr/>
            </p:nvSpPr>
            <p:spPr>
              <a:xfrm>
                <a:off x="1156320" y="14882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C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02" name="Rectangle 8"/>
              <p:cNvSpPr/>
              <p:nvPr/>
            </p:nvSpPr>
            <p:spPr>
              <a:xfrm>
                <a:off x="2548440" y="14882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H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03" name="Rectangle 9"/>
              <p:cNvSpPr/>
              <p:nvPr/>
            </p:nvSpPr>
            <p:spPr>
              <a:xfrm>
                <a:off x="5439600" y="1505520"/>
                <a:ext cx="125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H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12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04" name="Rectangle 10"/>
              <p:cNvSpPr/>
              <p:nvPr/>
            </p:nvSpPr>
            <p:spPr>
              <a:xfrm>
                <a:off x="7170120" y="1488240"/>
                <a:ext cx="7293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05" name="Rectangle 11"/>
              <p:cNvSpPr/>
              <p:nvPr/>
            </p:nvSpPr>
            <p:spPr>
              <a:xfrm>
                <a:off x="3657600" y="1479240"/>
                <a:ext cx="126720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light</a:t>
                </a:r>
                <a:endParaRPr b="0" lang="en-US" sz="26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energy</a:t>
                </a:r>
                <a:endParaRPr b="0" lang="en-US" sz="2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06" name="Rectangle 12"/>
              <p:cNvSpPr/>
              <p:nvPr/>
            </p:nvSpPr>
            <p:spPr>
              <a:xfrm>
                <a:off x="4911840" y="1485000"/>
                <a:ext cx="489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07" name="Rectangle 13"/>
              <p:cNvSpPr/>
              <p:nvPr/>
            </p:nvSpPr>
            <p:spPr>
              <a:xfrm>
                <a:off x="2161080" y="15156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08" name="Rectangle 14"/>
              <p:cNvSpPr/>
              <p:nvPr/>
            </p:nvSpPr>
            <p:spPr>
              <a:xfrm>
                <a:off x="6706080" y="15156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09" name="Rectangle 15"/>
              <p:cNvSpPr/>
              <p:nvPr/>
            </p:nvSpPr>
            <p:spPr>
              <a:xfrm>
                <a:off x="3456720" y="15156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rcRect l="0" t="0" r="2000" b="3872"/>
          <a:stretch/>
        </p:blipFill>
        <p:spPr>
          <a:xfrm>
            <a:off x="4951440" y="457200"/>
            <a:ext cx="4192560" cy="637380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lant structur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btaining raw material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nligh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4a402"/>
                </a:solidFill>
                <a:uFillTx/>
                <a:latin typeface="Arial"/>
              </a:rPr>
              <a:t>leaves</a:t>
            </a:r>
            <a:r>
              <a:rPr b="1" lang="en-US" sz="2400" spc="-1" strike="noStrike">
                <a:solidFill>
                  <a:srgbClr val="04a402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= solar collector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omat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= gas exchang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ound under leav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ptake from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</a:rPr>
              <a:t>roo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utrien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, P, K, S, Mg, Fe…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ptake from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</a:rPr>
              <a:t>roo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rcRect l="10602" t="36365" r="2056" b="4082"/>
          <a:stretch/>
        </p:blipFill>
        <p:spPr>
          <a:xfrm>
            <a:off x="4040280" y="457200"/>
            <a:ext cx="5103720" cy="495936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4724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hloroplast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ouble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rom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thylakoid sac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Arial"/>
              </a:rPr>
              <a:t>grana stack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hlorophyll &amp; ETC in </a:t>
            </a:r>
            <a:r>
              <a:rPr b="1" i="1" lang="en-US" sz="3000" spc="-1" strike="noStrike">
                <a:solidFill>
                  <a:srgbClr val="c00000"/>
                </a:solidFill>
                <a:latin typeface="Arial"/>
              </a:rPr>
              <a:t>thylakoid membra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radient built up within thylakoid sa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lant structur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21" name="Group 17"/>
          <p:cNvGrpSpPr/>
          <p:nvPr/>
        </p:nvGrpSpPr>
        <p:grpSpPr>
          <a:xfrm>
            <a:off x="5715000" y="5698080"/>
            <a:ext cx="2666880" cy="780120"/>
            <a:chOff x="5715000" y="5698080"/>
            <a:chExt cx="2666880" cy="780120"/>
          </a:xfrm>
        </p:grpSpPr>
        <p:sp>
          <p:nvSpPr>
            <p:cNvPr id="622" name="Oval 5"/>
            <p:cNvSpPr/>
            <p:nvPr/>
          </p:nvSpPr>
          <p:spPr>
            <a:xfrm>
              <a:off x="5715000" y="5715000"/>
              <a:ext cx="2666880" cy="762120"/>
            </a:xfrm>
            <a:prstGeom prst="ellipse">
              <a:avLst/>
            </a:prstGeom>
            <a:solidFill>
              <a:srgbClr val="80ff00"/>
            </a:solidFill>
            <a:ln w="38160">
              <a:solidFill>
                <a:srgbClr val="04a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3" name="Rectangle 6"/>
            <p:cNvSpPr/>
            <p:nvPr/>
          </p:nvSpPr>
          <p:spPr>
            <a:xfrm>
              <a:off x="6176520" y="586476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4" name="Rectangle 7"/>
            <p:cNvSpPr/>
            <p:nvPr/>
          </p:nvSpPr>
          <p:spPr>
            <a:xfrm>
              <a:off x="6482880" y="57902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5" name="Rectangle 8"/>
            <p:cNvSpPr/>
            <p:nvPr/>
          </p:nvSpPr>
          <p:spPr>
            <a:xfrm>
              <a:off x="6635160" y="60188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6" name="Rectangle 9"/>
            <p:cNvSpPr/>
            <p:nvPr/>
          </p:nvSpPr>
          <p:spPr>
            <a:xfrm>
              <a:off x="6787440" y="57139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7" name="Rectangle 10"/>
            <p:cNvSpPr/>
            <p:nvPr/>
          </p:nvSpPr>
          <p:spPr>
            <a:xfrm>
              <a:off x="7016040" y="59425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8" name="Rectangle 11"/>
            <p:cNvSpPr/>
            <p:nvPr/>
          </p:nvSpPr>
          <p:spPr>
            <a:xfrm>
              <a:off x="7244640" y="569808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29" name="Rectangle 12"/>
            <p:cNvSpPr/>
            <p:nvPr/>
          </p:nvSpPr>
          <p:spPr>
            <a:xfrm>
              <a:off x="7320960" y="59425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0" name="Rectangle 13"/>
            <p:cNvSpPr/>
            <p:nvPr/>
          </p:nvSpPr>
          <p:spPr>
            <a:xfrm>
              <a:off x="7625880" y="57902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1" name="Rectangle 14"/>
            <p:cNvSpPr/>
            <p:nvPr/>
          </p:nvSpPr>
          <p:spPr>
            <a:xfrm>
              <a:off x="7701840" y="59425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2" name="Rectangle 15"/>
            <p:cNvSpPr/>
            <p:nvPr/>
          </p:nvSpPr>
          <p:spPr>
            <a:xfrm>
              <a:off x="5797080" y="586656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3" name="Rectangle 16"/>
            <p:cNvSpPr/>
            <p:nvPr/>
          </p:nvSpPr>
          <p:spPr>
            <a:xfrm>
              <a:off x="6324120" y="60793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35" name="Picture 2" descr=""/>
          <p:cNvPicPr/>
          <p:nvPr/>
        </p:nvPicPr>
        <p:blipFill>
          <a:blip r:embed="rId1"/>
          <a:srcRect l="0" t="0" r="0" b="3257"/>
          <a:stretch/>
        </p:blipFill>
        <p:spPr>
          <a:xfrm>
            <a:off x="762120" y="1368360"/>
            <a:ext cx="8153280" cy="533736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igments of photosynthe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80520" y="4343400"/>
            <a:ext cx="449604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hlorophyll &amp; accessory pigment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hotosystem”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mbedded in thylakoid membran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tructure 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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fun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7238880" y="358020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Why does this structure make sense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ght: absorption spectr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hotosynthesis gets energy by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absorbing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wavelengths of ligh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hlorophyll </a:t>
            </a: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dominant pigment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bsorbs best in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red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&amp; </a:t>
            </a:r>
            <a:r>
              <a:rPr b="1" lang="en-US" sz="2000" spc="-1" strike="noStrike" u="sng">
                <a:solidFill>
                  <a:srgbClr val="0070c0"/>
                </a:solidFill>
                <a:uFillTx/>
                <a:latin typeface="Arial"/>
              </a:rPr>
              <a:t>blue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avelengths &amp; least in </a:t>
            </a: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gree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ther pigments with different structures absorb light of different wavelength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41" name="Picture 4" descr=""/>
          <p:cNvPicPr/>
          <p:nvPr/>
        </p:nvPicPr>
        <p:blipFill>
          <a:blip r:embed="rId1"/>
          <a:srcRect l="0" t="0" r="0" b="66003"/>
          <a:stretch/>
        </p:blipFill>
        <p:spPr>
          <a:xfrm>
            <a:off x="4419720" y="3911760"/>
            <a:ext cx="4724280" cy="28112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" descr=""/>
          <p:cNvPicPr/>
          <p:nvPr/>
        </p:nvPicPr>
        <p:blipFill>
          <a:blip r:embed="rId2"/>
          <a:srcRect l="0" t="3332" r="0" b="4466"/>
          <a:stretch/>
        </p:blipFill>
        <p:spPr>
          <a:xfrm>
            <a:off x="1494000" y="4021200"/>
            <a:ext cx="2909880" cy="27097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9" descr="penguinL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44" name="AutoShape 10"/>
          <p:cNvSpPr/>
          <p:nvPr/>
        </p:nvSpPr>
        <p:spPr>
          <a:xfrm flipH="1">
            <a:off x="-720" y="3911760"/>
            <a:ext cx="1893960" cy="971280"/>
          </a:xfrm>
          <a:prstGeom prst="wedgeEllipseCallout">
            <a:avLst>
              <a:gd name="adj1" fmla="val -5995"/>
              <a:gd name="adj2" fmla="val 13708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y a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lants green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15" descr="masked penguin"/>
          <p:cNvPicPr/>
          <p:nvPr/>
        </p:nvPicPr>
        <p:blipFill>
          <a:blip r:embed="rId1"/>
          <a:stretch/>
        </p:blipFill>
        <p:spPr>
          <a:xfrm flipH="1">
            <a:off x="7213320" y="4792680"/>
            <a:ext cx="1941480" cy="203976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12"/>
          <p:cNvSpPr/>
          <p:nvPr/>
        </p:nvSpPr>
        <p:spPr>
          <a:xfrm>
            <a:off x="404640" y="1325520"/>
            <a:ext cx="1413000" cy="23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7" name="Rectangle 9"/>
          <p:cNvSpPr/>
          <p:nvPr/>
        </p:nvSpPr>
        <p:spPr>
          <a:xfrm>
            <a:off x="158760" y="6326280"/>
            <a:ext cx="141300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48" name="Picture 2" descr=""/>
          <p:cNvPicPr/>
          <p:nvPr/>
        </p:nvPicPr>
        <p:blipFill>
          <a:blip r:embed="rId2"/>
          <a:srcRect l="0" t="0" r="0" b="3446"/>
          <a:stretch/>
        </p:blipFill>
        <p:spPr>
          <a:xfrm>
            <a:off x="4424400" y="179280"/>
            <a:ext cx="4719600" cy="309888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-360" y="1668600"/>
            <a:ext cx="72802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Light rea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ight-dependent rea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ergy production rea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nvert solar energy to chemical energy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TP &amp; NADP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Calvin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ight-independent rea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gar production rea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ses chemical energy (ATP &amp; NADPH) to reduce C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&amp; synthesize C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1" name="AutoShape 14"/>
          <p:cNvSpPr/>
          <p:nvPr/>
        </p:nvSpPr>
        <p:spPr>
          <a:xfrm>
            <a:off x="5330880" y="3879720"/>
            <a:ext cx="2565360" cy="1017720"/>
          </a:xfrm>
          <a:prstGeom prst="wedgeEllipseCallout">
            <a:avLst>
              <a:gd name="adj1" fmla="val 35087"/>
              <a:gd name="adj2" fmla="val 8541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It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’</a:t>
            </a: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s the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ark Reactions</a:t>
            </a:r>
            <a:r>
              <a:rPr b="1" i="1" lang="en-US" sz="20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2" name="Freeform 22"/>
          <p:cNvSpPr/>
          <p:nvPr/>
        </p:nvSpPr>
        <p:spPr>
          <a:xfrm>
            <a:off x="5529240" y="4354560"/>
            <a:ext cx="2314440" cy="450720"/>
          </a:xfrm>
          <a:custGeom>
            <a:avLst/>
            <a:gdLst/>
            <a:ahLst/>
            <a:rect l="l" t="t" r="r" b="b"/>
            <a:pathLst>
              <a:path w="1525" h="384">
                <a:moveTo>
                  <a:pt x="0" y="245"/>
                </a:moveTo>
                <a:cubicBezTo>
                  <a:pt x="83" y="157"/>
                  <a:pt x="167" y="69"/>
                  <a:pt x="175" y="79"/>
                </a:cubicBezTo>
                <a:cubicBezTo>
                  <a:pt x="183" y="89"/>
                  <a:pt x="38" y="304"/>
                  <a:pt x="50" y="304"/>
                </a:cubicBezTo>
                <a:cubicBezTo>
                  <a:pt x="62" y="304"/>
                  <a:pt x="227" y="79"/>
                  <a:pt x="250" y="79"/>
                </a:cubicBezTo>
                <a:cubicBezTo>
                  <a:pt x="273" y="79"/>
                  <a:pt x="163" y="306"/>
                  <a:pt x="191" y="304"/>
                </a:cubicBezTo>
                <a:cubicBezTo>
                  <a:pt x="219" y="302"/>
                  <a:pt x="385" y="72"/>
                  <a:pt x="416" y="70"/>
                </a:cubicBezTo>
                <a:cubicBezTo>
                  <a:pt x="447" y="68"/>
                  <a:pt x="344" y="295"/>
                  <a:pt x="375" y="295"/>
                </a:cubicBezTo>
                <a:cubicBezTo>
                  <a:pt x="406" y="295"/>
                  <a:pt x="575" y="60"/>
                  <a:pt x="600" y="70"/>
                </a:cubicBezTo>
                <a:cubicBezTo>
                  <a:pt x="625" y="80"/>
                  <a:pt x="495" y="354"/>
                  <a:pt x="525" y="354"/>
                </a:cubicBezTo>
                <a:cubicBezTo>
                  <a:pt x="555" y="354"/>
                  <a:pt x="746" y="76"/>
                  <a:pt x="783" y="70"/>
                </a:cubicBezTo>
                <a:cubicBezTo>
                  <a:pt x="820" y="64"/>
                  <a:pt x="718" y="323"/>
                  <a:pt x="750" y="320"/>
                </a:cubicBezTo>
                <a:cubicBezTo>
                  <a:pt x="782" y="317"/>
                  <a:pt x="952" y="48"/>
                  <a:pt x="975" y="54"/>
                </a:cubicBezTo>
                <a:cubicBezTo>
                  <a:pt x="998" y="60"/>
                  <a:pt x="863" y="362"/>
                  <a:pt x="891" y="354"/>
                </a:cubicBezTo>
                <a:cubicBezTo>
                  <a:pt x="919" y="346"/>
                  <a:pt x="1113" y="0"/>
                  <a:pt x="1141" y="4"/>
                </a:cubicBezTo>
                <a:cubicBezTo>
                  <a:pt x="1169" y="8"/>
                  <a:pt x="1032" y="374"/>
                  <a:pt x="1058" y="379"/>
                </a:cubicBezTo>
                <a:cubicBezTo>
                  <a:pt x="1084" y="384"/>
                  <a:pt x="1271" y="44"/>
                  <a:pt x="1300" y="37"/>
                </a:cubicBezTo>
                <a:cubicBezTo>
                  <a:pt x="1329" y="30"/>
                  <a:pt x="1196" y="336"/>
                  <a:pt x="1233" y="337"/>
                </a:cubicBezTo>
                <a:cubicBezTo>
                  <a:pt x="1270" y="338"/>
                  <a:pt x="1397" y="191"/>
                  <a:pt x="1525" y="4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Date Placeholder 4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7391520" y="64008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rcRect l="0" t="0" r="902" b="3773"/>
          <a:stretch/>
        </p:blipFill>
        <p:spPr>
          <a:xfrm>
            <a:off x="3630600" y="2666880"/>
            <a:ext cx="5513400" cy="396252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ght reacti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4a40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4a402"/>
                </a:solidFill>
                <a:uFillTx/>
                <a:latin typeface="Arial"/>
              </a:rPr>
              <a:t>Electron Transport Chain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(like cell respiration!)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mbrane-bound proteins in organell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ectron accepto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ADP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ton (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 across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ner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ATP synthase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zy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stem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59" name="Picture 3" descr=""/>
          <p:cNvPicPr/>
          <p:nvPr/>
        </p:nvPicPr>
        <p:blipFill>
          <a:blip r:embed="rId1"/>
          <a:srcRect l="0" t="0" r="0" b="9055"/>
          <a:stretch/>
        </p:blipFill>
        <p:spPr>
          <a:xfrm>
            <a:off x="4951440" y="3733920"/>
            <a:ext cx="4116240" cy="274140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photosystems in thylakoid membran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ct as light-gathering “antenna complex”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otosystem II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lorophyll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f116a"/>
                </a:solidFill>
                <a:latin typeface="Arial"/>
              </a:rPr>
              <a:t>680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= absorbs 680nm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light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Photosystem I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chlorophyll </a:t>
            </a:r>
            <a:r>
              <a:rPr b="1" i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b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f116a"/>
                </a:solidFill>
                <a:latin typeface="Arial"/>
              </a:rPr>
              <a:t>700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= absorbs 700nm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light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4917960" y="2843280"/>
            <a:ext cx="1468440" cy="885960"/>
          </a:xfrm>
          <a:prstGeom prst="rect">
            <a:avLst/>
          </a:prstGeom>
          <a:solidFill>
            <a:srgbClr val="b5ddbd"/>
          </a:solidFill>
          <a:ln w="9360">
            <a:solidFill>
              <a:srgbClr val="006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700"/>
                </a:solidFill>
                <a:latin typeface="Arial"/>
              </a:rPr>
              <a:t>reaction</a:t>
            </a:r>
            <a:br>
              <a:rPr sz="2600"/>
            </a:br>
            <a:r>
              <a:rPr b="1" lang="en-US" sz="2600" spc="-1" strike="noStrike">
                <a:solidFill>
                  <a:srgbClr val="006700"/>
                </a:solidFill>
                <a:latin typeface="Arial"/>
              </a:rPr>
              <a:t>center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cxnSp>
        <p:nvCxnSpPr>
          <p:cNvPr id="662" name="Straight Arrow Connector 2"/>
          <p:cNvCxnSpPr/>
          <p:nvPr/>
        </p:nvCxnSpPr>
        <p:spPr>
          <a:xfrm>
            <a:off x="5791320" y="3733560"/>
            <a:ext cx="762480" cy="991080"/>
          </a:xfrm>
          <a:prstGeom prst="straightConnector1">
            <a:avLst/>
          </a:prstGeom>
          <a:ln w="38160">
            <a:solidFill>
              <a:srgbClr val="003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4:19:13Z</dcterms:created>
  <dc:creator>Kim Foglia</dc:creator>
  <dc:description>All Rights Reserved. Copyright 2003. WD Interactive.</dc:description>
  <cp:keywords>Education Biology Zone Kim Foglia</cp:keywords>
  <dc:language>en-US</dc:language>
  <cp:lastModifiedBy>Lisa</cp:lastModifiedBy>
  <cp:lastPrinted>2005-11-29T04:47:15Z</cp:lastPrinted>
  <dcterms:modified xsi:type="dcterms:W3CDTF">2014-10-23T04:04:58Z</dcterms:modified>
  <cp:revision>48</cp:revision>
  <dc:subject>AP &amp; Regents Biology</dc:subject>
  <dc:title>PowerPoint Presentation</dc:title>
</cp:coreProperties>
</file>